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1C2-CA58-4E13-9E57-8EF6AB4A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EDD-9C2C-430E-A578-B9042E69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5BF74-EDE5-4B03-A4FD-900ED817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12FDB-9B22-4127-BDED-87244E19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60BCC-3603-410D-ABA2-E8FCD5EE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C70BA-FFA1-4600-AFCD-3902B694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EC781-55BA-4A24-8302-99D5735C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B2543-AC8E-4E1E-B766-C3C50808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8D07D-DAEC-4CA6-9589-066D9783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391EB-E08E-4494-8B79-3AD20B63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F4622-99C3-432D-8767-696CA1FB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608-499F-46B1-A321-2E95DC91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A59-4885-47FA-B721-F87F000C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4543-375B-4B94-B254-D2619222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A28D-0D30-4204-AA49-E53919DC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1C06-1936-47DB-812B-CC8E2E76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895D-9BC0-4AF2-86B5-138102AC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A4E4-3089-40CA-A13B-262A5C02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00B6-A579-4F96-90CE-8237CEB5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2CEE-0B8E-403D-9C0F-0FF9149E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6E89-B330-4D88-B721-7BA71637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974B-2BDD-4877-AA52-CF0D8522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5960-F307-4259-8B41-D8398B24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2649-33F1-4A1B-98F0-B12AF380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8DF1-FE8E-4B1F-8CD7-AC1A917B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77C5-B36A-4BF8-9126-2F43EE87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5CA5C-C99E-4F68-AEA7-D06DB3A2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33E8D-9B86-4B7A-988D-0AB0BD32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9A45C-5934-4CF5-A8ED-BEB4BF7B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7DEED-FCA5-4B0D-B7FE-753C288A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C52FA-A310-4F0C-AAAF-F37AF5D3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02F-35F9-4D3E-B4EC-47F19E8E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1048A-8185-4064-8695-FC0345FA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A27BB-79A4-49E4-90C0-E2534551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402A-B1BC-4973-AA06-CA38D4B3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CB0F9-8F94-46CD-9709-8C698A88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AA6B2-B147-48CC-9E4B-D37587C0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03AE0-23C9-4BC2-A51D-DA036A61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5127-5CE6-4E46-9EB9-10AF7728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2BC59-60B0-4353-8339-513737F6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D9C58-6B12-4B0A-AB0B-7F7F3E56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4A8B3-66C5-4FFA-BCDC-6AAAF346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7123-2C07-4DFD-8CE5-E974B539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3C93B-7F4D-4ADE-898E-BB36843A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BCA59-C968-4DE0-A497-988331E8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024D2-58EB-4BA4-9F60-793CC17C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56A38-CA58-4863-B75D-972D380C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FCE94-20E4-476D-BD84-421BA1D6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56B08-7044-4AD0-8DA7-DB56E2B2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CE86E-8734-428E-A61D-3486CC44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90E07-FE6C-4A23-A662-A2A3B33E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F2596-4DE7-48DD-82BC-042C3E0C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C2CE3-C9FA-417E-8BD2-D7610093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952-C26B-49A6-A324-499F04DC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59FDA-0AA5-42EB-BCDB-3A1EBBC4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B7E99-677B-4CFB-8C16-6DFA40CD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B1EC2-83A1-4736-89F8-71ABB3D9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229FF-0413-4522-9433-97DFB4F7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5DF8A-2647-45F8-A85C-A7239B30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CD5F4-4A68-4BE4-9D10-FB33EE17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AA828-2D9A-4A6B-BB01-E484D251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ECA1C-46BB-45D2-BCC6-F344C8A2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099D6-093A-48ED-88A3-5D07A04A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A6AD5-B365-4986-8ED7-D595F63B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148-63C7-4DDE-9895-FD99EEA0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FD8E6-DA84-41CD-A93E-F122A437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17E15-3C43-48FF-84E6-DA35C65B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FC69E-D10F-4B1E-BC56-88130633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3218A-3FFB-4677-AFBE-4A2047EA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62230-1BFB-4019-8553-44AD6ECE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DA721-56D3-4032-A890-F36C8E50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907F6-CAAB-4297-8C04-06FA0E8F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56DA1-C1E5-4B1C-9800-220466DE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4AAB1-17F1-42DA-9E89-E819DF31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B4B90-47FC-4604-B17D-412A1890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2F4-AE8F-4727-AD6B-B388F761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DB6EA-E62B-47E9-901C-375250CB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CBE83-82E9-47F8-9971-F833A6A4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81F4B-E3E2-4C20-8599-8BDF9397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2F5D6-F550-40D0-BD64-DA10876B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BC67B-F42C-403E-A1DF-21EB07B5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4BC33-72EA-448D-A8A5-B4C052AB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B129B-525E-4CE4-87DB-FFEB97DA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D597C-8D15-4F86-8624-475952C5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39AE0-C97E-4551-9808-40E2E69C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97B0B-E26E-4DE9-99FD-7C42BA0E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ED9-781F-48FB-8DDA-644EBB2C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2B18F-C925-4498-B775-CCBC8590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E809E-A30A-45CA-B6DD-20413620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2359C-9245-491F-A180-F40C75EF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5EBE9-2AF7-46EC-ADE5-C5C5146F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9C271-2E6E-4E71-907E-1E50DDBD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E4CC7-0547-47C2-98D5-58E25AA4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ADF3B-8BAB-4068-B1CC-D2C12A6E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4D936-10F1-4BD5-AB20-C943300B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9C92C-48BA-47C5-AEE1-75E3AA6E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72D3F-616C-4E0E-AA60-B7FE49B3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58A-28F5-431F-A356-24491D98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E1D29-3206-46D3-8EDA-7C879602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24E50-4AA5-4FD9-A472-CD7B4477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5E339-CD27-4A2C-938B-AEFAE8C4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9B0C4-1C8A-4EC4-9593-CCDC20DA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12079-90F5-4AF4-AC3A-E6788786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7E910-E875-44DC-BEC5-4B8EC688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6CF1F-2586-4ED7-A3A2-E11FE141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6FC86-9DB5-40A3-A3B8-0DF15D74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A8508-F6B3-41B2-B933-43CB7C22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17887-124D-4388-A851-57B1C265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4FD1-A2BF-4545-8991-42F89770A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3394-A192-4A23-811A-5766F40BD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7FC2-4B04-49D8-AD01-5EF840F1A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5408-6A0E-4204-9A59-946111262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0EBD-64E3-4DD2-8A75-27A849D96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0412-1C28-40E7-B1B3-7F435F34E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EF2B-5EB1-442B-A963-30E1739C0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9C60-A034-42F2-B1C3-EB2282872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9AA9-4E80-48EB-BFDF-B5E13110F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 u="sng">
                <a:solidFill>
                  <a:srgbClr val="000000"/>
                </a:solidFill>
                <a:uFillTx/>
                <a:latin typeface="Calibri"/>
              </a:rPr>
              <a:t>Куріння</a:t>
            </a:r>
            <a:r>
              <a:rPr b="1" lang="uk-UA" sz="9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uk-UA" sz="9600" spc="-1" strike="noStrike" u="sng">
                <a:solidFill>
                  <a:srgbClr val="000000"/>
                </a:solidFill>
                <a:uFillTx/>
                <a:latin typeface="Calibri"/>
              </a:rPr>
              <a:t>- шкідлива звичк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030a0"/>
                </a:solidFill>
                <a:latin typeface="Calibri"/>
              </a:rPr>
              <a:t>Пасивне куріння приводить до активного куріння, це зашкоджує здоров</a:t>
            </a:r>
            <a:r>
              <a:rPr b="1" lang="uk-UA" sz="3600" spc="-1" strike="noStrike">
                <a:solidFill>
                  <a:srgbClr val="7030a0"/>
                </a:solidFill>
                <a:latin typeface="Arial"/>
              </a:rPr>
              <a:t>’</a:t>
            </a:r>
            <a:r>
              <a:rPr b="1" lang="uk-UA" sz="3600" spc="-1" strike="noStrike">
                <a:solidFill>
                  <a:srgbClr val="7030a0"/>
                </a:solidFill>
                <a:latin typeface="Calibri"/>
              </a:rPr>
              <a:t>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2" descr="C:\Documents and Settings\admin\Рабочий стол\пасивное курение.jpeg"/>
          <p:cNvPicPr/>
          <p:nvPr/>
        </p:nvPicPr>
        <p:blipFill>
          <a:blip r:embed="rId2"/>
          <a:stretch/>
        </p:blipFill>
        <p:spPr>
          <a:xfrm>
            <a:off x="2843280" y="2133720"/>
            <a:ext cx="3949560" cy="3935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 u="sng">
                <a:solidFill>
                  <a:srgbClr val="000000"/>
                </a:solidFill>
                <a:uFillTx/>
                <a:latin typeface="Calibri"/>
              </a:rPr>
              <a:t>ПАСИВНЕ КУРІНН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uk-UA" sz="4800" spc="-1" strike="noStrike">
                <a:solidFill>
                  <a:srgbClr val="000000"/>
                </a:solidFill>
                <a:latin typeface="Calibri"/>
              </a:rPr>
              <a:t>це перебування людей, які не курять, у приміщенні, де інші люди курять тривалий час. У людей, які не курять, з</a:t>
            </a:r>
            <a:r>
              <a:rPr b="0" i="1" lang="uk-UA" sz="4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uk-UA" sz="4800" spc="-1" strike="noStrike">
                <a:solidFill>
                  <a:srgbClr val="000000"/>
                </a:solidFill>
                <a:latin typeface="Calibri"/>
              </a:rPr>
              <a:t>являються хвороби, притаманні курця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Курять батьки – страждають ді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2" descr="C:\Documents and Settings\admin\Рабочий стол\мама і дитя.jpeg"/>
          <p:cNvPicPr/>
          <p:nvPr/>
        </p:nvPicPr>
        <p:blipFill>
          <a:blip r:embed="rId2"/>
          <a:stretch/>
        </p:blipFill>
        <p:spPr>
          <a:xfrm>
            <a:off x="5072040" y="1857240"/>
            <a:ext cx="3429000" cy="4786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Documents and Settings\admin\Рабочий стол\мама и сигарета.jpeg"/>
          <p:cNvPicPr/>
          <p:nvPr/>
        </p:nvPicPr>
        <p:blipFill>
          <a:blip r:embed="rId3"/>
          <a:stretch/>
        </p:blipFill>
        <p:spPr>
          <a:xfrm>
            <a:off x="642960" y="1857240"/>
            <a:ext cx="3714840" cy="4786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000000"/>
                </a:solidFill>
                <a:uFillTx/>
                <a:latin typeface="Calibri"/>
              </a:rPr>
              <a:t>ЗНАЙ ПРО Ц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2" descr="H:\Вредные привычки\1599308_36e27dd3.jpg"/>
          <p:cNvPicPr/>
          <p:nvPr/>
        </p:nvPicPr>
        <p:blipFill>
          <a:blip r:embed="rId1"/>
          <a:stretch/>
        </p:blipFill>
        <p:spPr>
          <a:xfrm>
            <a:off x="2340000" y="1071720"/>
            <a:ext cx="5303880" cy="4881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вороба від паління -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перші кроки до падінн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Picture 2" descr="C:\Documents and Settings\admin\Рабочий стол\запрет на курево.jpeg"/>
          <p:cNvPicPr/>
          <p:nvPr/>
        </p:nvPicPr>
        <p:blipFill>
          <a:blip r:embed="rId2"/>
          <a:stretch/>
        </p:blipFill>
        <p:spPr>
          <a:xfrm>
            <a:off x="2000160" y="1500120"/>
            <a:ext cx="478656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2:02:44Z</dcterms:created>
  <dc:creator>www.PHILka.RU</dc:creator>
  <dc:description/>
  <dc:language>en-US</dc:language>
  <cp:lastModifiedBy>Початкова школа</cp:lastModifiedBy>
  <dcterms:modified xsi:type="dcterms:W3CDTF">2009-04-24T10:15:51Z</dcterms:modified>
  <cp:revision>78</cp:revision>
  <dc:subject/>
  <dc:title>Слайд 1</dc:title>
</cp:coreProperties>
</file>