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6F6-DEB4-4F2A-8582-2A76814C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096-EC4F-49F4-AA5C-1301B6DE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39F-B8C1-4EF7-BE11-85DD01E8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726-A4C4-435C-ADB7-B3616B56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6CBF-DB12-4AA8-B703-1F967E32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D5DE-E45B-46E4-912D-DA626B15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C859-B955-4227-9012-7E5CA9D6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550B-15FB-437B-85DA-4340C828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79F2-9998-42E5-990A-133E86D1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2841-961F-4280-B56B-5870FE9E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62EA-A3ED-44E5-B380-81D51AA9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1BC-3219-4D38-973E-ECA74AC4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1CC6-3253-4E3F-A13B-EE7388A8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89FD-09ED-4AEA-8C09-68B7791F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9EE7-C728-4ED1-AD14-80C68471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2278-496B-44BD-A8CF-00EEF3C9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3A9D-E307-4223-B14D-A02A14D4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5CD-F5C0-428A-8B7F-C2504B94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312-32D1-452B-9D77-A0DABAF5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805-FA8F-42AF-B1DE-8675A822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59B-8B30-4760-8346-2806E062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4AA-AC4F-4A5D-8653-5A19345D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2FC-2C5E-4609-9464-F5D93285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EC6-E7F0-45C1-9A86-14AE5554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5883-4501-4661-A3D1-2EAC944FC4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1F17-5487-467F-B149-83E70C9AFE4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K45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WAVES_AN.WAV" descr=""/>
          <p:cNvPicPr/>
          <p:nvPr/>
        </p:nvPicPr>
        <p:blipFill>
          <a:blip r:embed="rId2"/>
          <a:stretch/>
        </p:blipFill>
        <p:spPr>
          <a:xfrm>
            <a:off x="6515280" y="4883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20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5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арианты ответ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рось, приятель, сигарет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учше скушай ты конфет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бросишь ты кури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удешь дольше, лучше жи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бросишь ты сегодня сигарет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нешь здоровее- спору нет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к бросай скорее же курит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бы дольше и счастливее пожи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ечение нескольких лет учёные проводили наблюдения над 200 курильщиками и 200 некурящими школьник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теперь посмотрим, какими оказались сравнительные результа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067280" y="476280"/>
          <a:ext cx="4572000" cy="5692680"/>
        </p:xfrm>
        <a:graphic>
          <a:graphicData uri="http://schemas.openxmlformats.org/drawingml/2006/table">
            <a:tbl>
              <a:tblPr/>
              <a:tblGrid>
                <a:gridCol w="2233440"/>
                <a:gridCol w="1212840"/>
                <a:gridCol w="112572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рящ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курящ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Нервные боле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Понижение сл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Плохая памя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Плохое физическое состоя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Плохое умственное состоя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Нечисто плот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Плохие отме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Медленно соображаю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тоги социологического  опрос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Пробовали курить (71,1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Чем привлекает курени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успокаивает нервы (19,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курю за компанию (12,04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просто хочу курить (12,04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Считают что курение стало привычкой(11,8%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Курят,но хотят бросить.(16,86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итуац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еглась дневная суета. Дома в округе погружаются в дремоту. В подъездах тишина и порядок . И только где-то на площадке первого этажа компания подростков весело обсуждает новости прошедшего дня. Кто-то по-взрослому затягивает сигарету, но никого это не смущает. Дым от сигарет, как туманом, окутывает парней и девчонок, заодно проникая в квартиру жильц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абачный д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5435640" y="4149720"/>
            <a:ext cx="7308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4643280" y="3213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4427640" y="220500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3335400" y="3373560"/>
            <a:ext cx="137160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20"/>
          <p:cNvSpPr/>
          <p:nvPr/>
        </p:nvSpPr>
        <p:spPr>
          <a:xfrm flipV="1">
            <a:off x="4021200" y="2916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21"/>
          <p:cNvSpPr/>
          <p:nvPr/>
        </p:nvSpPr>
        <p:spPr>
          <a:xfrm flipV="1">
            <a:off x="4554360" y="3259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H="1" flipV="1">
            <a:off x="3029040" y="3373200"/>
            <a:ext cx="458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3"/>
          <p:cNvSpPr/>
          <p:nvPr/>
        </p:nvSpPr>
        <p:spPr>
          <a:xfrm flipH="1">
            <a:off x="2801880" y="4059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24"/>
          <p:cNvSpPr/>
          <p:nvPr/>
        </p:nvSpPr>
        <p:spPr>
          <a:xfrm flipV="1">
            <a:off x="4707000" y="4059000"/>
            <a:ext cx="5331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25"/>
          <p:cNvSpPr/>
          <p:nvPr/>
        </p:nvSpPr>
        <p:spPr>
          <a:xfrm flipH="1">
            <a:off x="3258720" y="451656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4400640" y="4630680"/>
            <a:ext cx="3808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3419640" y="3645000"/>
            <a:ext cx="12236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ачный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ым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5148360" y="2924280"/>
            <a:ext cx="165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кот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2771640" y="2349360"/>
            <a:ext cx="2305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bb5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нильная кислот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1506600" y="3144960"/>
            <a:ext cx="152244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ро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971640" y="3860640"/>
            <a:ext cx="17287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диоактивный поло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1835280" y="515772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арный га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3"/>
          <p:cNvSpPr/>
          <p:nvPr/>
        </p:nvSpPr>
        <p:spPr>
          <a:xfrm>
            <a:off x="4643280" y="5084640"/>
            <a:ext cx="2741760" cy="6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сиды азота</a:t>
            </a:r>
            <a:r>
              <a:rPr b="0" lang="be-BY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уравьиная., уксусная кислоты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5292720" y="3645000"/>
            <a:ext cx="19242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церогенные смол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урение и здоровь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Oval 14"/>
          <p:cNvSpPr/>
          <p:nvPr/>
        </p:nvSpPr>
        <p:spPr>
          <a:xfrm>
            <a:off x="4197240" y="3056040"/>
            <a:ext cx="1371600" cy="12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5454720" y="4084560"/>
            <a:ext cx="56808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6"/>
          <p:cNvSpPr/>
          <p:nvPr/>
        </p:nvSpPr>
        <p:spPr>
          <a:xfrm flipH="1">
            <a:off x="3740040" y="4084560"/>
            <a:ext cx="571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7"/>
          <p:cNvSpPr/>
          <p:nvPr/>
        </p:nvSpPr>
        <p:spPr>
          <a:xfrm flipV="1">
            <a:off x="5454720" y="2941200"/>
            <a:ext cx="4554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8"/>
          <p:cNvSpPr/>
          <p:nvPr/>
        </p:nvSpPr>
        <p:spPr>
          <a:xfrm flipH="1" flipV="1">
            <a:off x="3852360" y="2941200"/>
            <a:ext cx="4590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050920" y="2276640"/>
            <a:ext cx="2376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щеварительная систе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5316480" y="2368440"/>
            <a:ext cx="1760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рв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2344680" y="4541760"/>
            <a:ext cx="1940040" cy="90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рдечно-сосудист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5087880" y="4541760"/>
            <a:ext cx="1714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ыхатель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4356000" y="3284640"/>
            <a:ext cx="115272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ачны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ы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урение и окружающая сре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2340000" y="3141720"/>
            <a:ext cx="1828800" cy="12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4140360" y="37162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076720" y="3357720"/>
            <a:ext cx="1892520" cy="66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ссивное кур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556000" y="3429000"/>
            <a:ext cx="137160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ачный ды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683160" y="435276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4140360" y="4724280"/>
            <a:ext cx="2171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грязнение окружающей  сред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Утверждение короля Якова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be-BY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тюарт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ажите правильность утверждений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оля Яков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be-BY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юарт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ираясь на известные вам факт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труда короля Англи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оля Яков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be-BY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юарт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 вреде табак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 (1604): “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привычка, противная зрению, невыносимая для обоняния, вредная для мозга, опасная для лёгки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ифмой по вредной привычке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……… сигарет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……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фет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……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ри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……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и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……… сигарет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………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ору нет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………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ри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………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жи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6:21:07Z</dcterms:created>
  <dc:creator>comp17</dc:creator>
  <dc:description/>
  <dc:language>en-US</dc:language>
  <cp:lastModifiedBy>XTreme</cp:lastModifiedBy>
  <dcterms:modified xsi:type="dcterms:W3CDTF">2010-05-17T13:26:43Z</dcterms:modified>
  <cp:revision>10</cp:revision>
  <dc:subject/>
  <dc:title>Презентация о вреде курения </dc:title>
</cp:coreProperties>
</file>