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212-A955-4564-8964-DE77BF13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F3B-449F-4F13-B6A1-9D95FF70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663-FBBE-4201-8B7E-FF5228ED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DB5-CFD0-4126-955C-2BE9E2C5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37B3-1E94-4564-B508-D4DB85A4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A860-B678-43F1-B585-BC78C50A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FC8C-B37A-4626-9A33-A3E8EFE5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5DA2-355B-4284-9954-3CFA3147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6EBD-2F11-44BF-8E9A-EEB2C887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7135-D3F0-45E3-A4A9-D7490A23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ECB5-445B-4FFD-A328-9E2933AF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D5A-ACDF-41A7-AE7C-2AF734C0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D011-7151-40C2-A21C-9317F6AB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B2EC-A54E-4D28-882C-1B27215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9C4E-4F78-46A2-892B-720ADDCB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FD95-1C3A-49BB-AE70-C60AA007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EC41-357D-4708-A705-FC918DB9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AF8-F65C-42EC-B33A-0AA71437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C2A-FD84-4038-98B5-1214247F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166-C4C5-4D1D-BB53-D518D3C6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BB6-C9C0-4B22-8842-EB74B1ED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C20-0471-4787-9D32-AA4D5EB3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180-5804-45D5-A3C2-0A49FF0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93E-E9E1-4D40-94CE-4F60DEDF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89EB-2CE1-4BCE-AC49-29A4F0C581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A83-8FB0-4E4A-8882-81F02A1859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2319120"/>
            <a:ext cx="91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270060"/>
                </a:solidFill>
                <a:latin typeface="Calibri"/>
              </a:rPr>
              <a:t>Презентація на тему: «</a:t>
            </a:r>
            <a:r>
              <a:rPr b="1" lang="ru-RU" sz="6000" spc="-1" strike="noStrike">
                <a:solidFill>
                  <a:srgbClr val="270060"/>
                </a:solidFill>
                <a:latin typeface="Calibri"/>
              </a:rPr>
              <a:t>Україна </a:t>
            </a:r>
            <a:br>
              <a:rPr sz="6000"/>
            </a:br>
            <a:r>
              <a:rPr b="1" lang="ru-RU" sz="6000" spc="-1" strike="noStrike">
                <a:solidFill>
                  <a:srgbClr val="270060"/>
                </a:solidFill>
                <a:latin typeface="Calibri"/>
              </a:rPr>
              <a:t>в 1907–1914 рр. </a:t>
            </a:r>
            <a:br>
              <a:rPr sz="6000"/>
            </a:br>
            <a:r>
              <a:rPr b="1" lang="ru-RU" sz="6000" spc="-1" strike="noStrike">
                <a:solidFill>
                  <a:srgbClr val="270060"/>
                </a:solidFill>
                <a:latin typeface="Calibri"/>
              </a:rPr>
              <a:t>Земельна реформа П.Столипіна </a:t>
            </a:r>
            <a:r>
              <a:rPr b="1" lang="uk-UA" sz="6000" spc="-1" strike="noStrike">
                <a:solidFill>
                  <a:srgbClr val="270060"/>
                </a:solidFill>
                <a:latin typeface="Calibri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99840" y="-360"/>
            <a:ext cx="664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53735"/>
                </a:solidFill>
                <a:latin typeface="Calibri"/>
              </a:rPr>
              <a:t>“</a:t>
            </a:r>
            <a:r>
              <a:rPr b="1" lang="uk-UA" sz="4400" spc="-1" strike="noStrike">
                <a:solidFill>
                  <a:srgbClr val="953735"/>
                </a:solidFill>
                <a:latin typeface="Calibri"/>
              </a:rPr>
              <a:t>Українська платформа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42884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Вимог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апровадження навчання в школах українською мово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икладання української мови, літератури та історії як окремих предметів у середніх та вищих навчальних заклад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икористання української мови в судочинстві, церкві та громадських організаці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касування заборон на привезення з-за кордону літератури, виданої українською мов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 flipH="1">
            <a:off x="-720" y="0"/>
            <a:ext cx="2714760" cy="1478880"/>
          </a:xfrm>
          <a:prstGeom prst="irregularSeal1">
            <a:avLst/>
          </a:prstGeom>
          <a:solidFill>
            <a:srgbClr val="ffff00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Arial"/>
              </a:rPr>
              <a:t>1912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Табличка 5"/>
          <p:cNvSpPr/>
          <p:nvPr/>
        </p:nvSpPr>
        <p:spPr>
          <a:xfrm>
            <a:off x="3000240" y="857160"/>
            <a:ext cx="5786640" cy="642960"/>
          </a:xfrm>
          <a:custGeom>
            <a:avLst/>
            <a:gdLst>
              <a:gd name="textAreaLeft" fmla="*/ 75600 w 5786640"/>
              <a:gd name="textAreaRight" fmla="*/ 5711040 w 5786640"/>
              <a:gd name="textAreaTop" fmla="*/ 75600 h 642960"/>
              <a:gd name="textAreaBottom" fmla="*/ 567360 h 642960"/>
            </a:gdLst>
            <a:ahLst/>
            <a:rect l="textAreaLeft" t="textAreaTop" r="textAreaRight" b="textAreaBottom"/>
            <a:pathLst>
              <a:path w="19430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0703" y="21600"/>
                </a:lnTo>
                <a:arcTo wR="3600" hR="3600" stAng="10800000" swAng="5400000"/>
                <a:lnTo>
                  <a:pt x="194303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Затвердження на з'їзді 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Чикаленко Євген Харламович.jpg"/>
          <p:cNvPicPr/>
          <p:nvPr/>
        </p:nvPicPr>
        <p:blipFill>
          <a:blip r:embed="rId3"/>
          <a:stretch/>
        </p:blipFill>
        <p:spPr>
          <a:xfrm>
            <a:off x="5643720" y="1785960"/>
            <a:ext cx="3279600" cy="42148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5572080" y="5934240"/>
            <a:ext cx="35719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Євген Чикаленко – ініціатор заснування Товариства українських поступов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72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32523"/>
                </a:solidFill>
                <a:latin typeface="Calibri"/>
              </a:rPr>
              <a:t>Аграрна реформ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785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Причин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12859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вирішення аграрного пит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відвернення нового соціального вибух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28760" y="14284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Завданн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окращення становища Росії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ідвищення ефективності сільського господар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створення заможного селян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вирішення проблеми аграрного перенаселе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ятно 2 4"/>
          <p:cNvSpPr/>
          <p:nvPr/>
        </p:nvSpPr>
        <p:spPr>
          <a:xfrm>
            <a:off x="4572000" y="214200"/>
            <a:ext cx="6215040" cy="128844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1906 – 1911 р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http://upload.wikimedia.org/wikipedia/commons/thumb/b/b0/KorovinS_NaMiru.jpg/400px-KorovinS_NaMiru.jpg"/>
          <p:cNvPicPr/>
          <p:nvPr/>
        </p:nvPicPr>
        <p:blipFill>
          <a:blip r:embed="rId2"/>
          <a:stretch/>
        </p:blipFill>
        <p:spPr>
          <a:xfrm>
            <a:off x="571680" y="3143160"/>
            <a:ext cx="3143160" cy="34894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8"/>
          <p:cNvSpPr/>
          <p:nvPr/>
        </p:nvSpPr>
        <p:spPr>
          <a:xfrm>
            <a:off x="698040" y="6488280"/>
            <a:ext cx="2832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а миру», Сергій Корові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Admin\Мои документы\Завантаження\1322201_original.jpg"/>
          <p:cNvPicPr/>
          <p:nvPr/>
        </p:nvPicPr>
        <p:blipFill>
          <a:blip r:embed="rId2"/>
          <a:stretch/>
        </p:blipFill>
        <p:spPr>
          <a:xfrm>
            <a:off x="1143000" y="15840"/>
            <a:ext cx="6858000" cy="6842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3"/>
          <a:srcRect l="0" t="16075" r="0" b="17067"/>
          <a:stretch/>
        </p:blipFill>
        <p:spPr>
          <a:xfrm>
            <a:off x="4896000" y="4941720"/>
            <a:ext cx="517320" cy="46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4"/>
          <a:srcRect l="0" t="16075" r="0" b="17067"/>
          <a:stretch/>
        </p:blipFill>
        <p:spPr>
          <a:xfrm>
            <a:off x="4381560" y="4722840"/>
            <a:ext cx="517320" cy="461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5"/>
          <a:srcRect l="0" t="16075" r="0" b="17067"/>
          <a:stretch/>
        </p:blipFill>
        <p:spPr>
          <a:xfrm>
            <a:off x="4194000" y="4251240"/>
            <a:ext cx="517680" cy="460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6"/>
          <a:srcRect l="0" t="16075" r="0" b="17067"/>
          <a:stretch/>
        </p:blipFill>
        <p:spPr>
          <a:xfrm>
            <a:off x="4984920" y="5392800"/>
            <a:ext cx="517320" cy="46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7"/>
          <a:srcRect l="0" t="16075" r="0" b="17067"/>
          <a:stretch/>
        </p:blipFill>
        <p:spPr>
          <a:xfrm>
            <a:off x="5761080" y="3206880"/>
            <a:ext cx="515880" cy="460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8"/>
          <a:srcRect l="0" t="16075" r="0" b="17067"/>
          <a:stretch/>
        </p:blipFill>
        <p:spPr>
          <a:xfrm>
            <a:off x="6192720" y="2925720"/>
            <a:ext cx="515880" cy="461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9"/>
          <a:srcRect l="0" t="16075" r="0" b="17067"/>
          <a:stretch/>
        </p:blipFill>
        <p:spPr>
          <a:xfrm>
            <a:off x="5243400" y="5853240"/>
            <a:ext cx="517680" cy="460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10"/>
          <a:srcRect l="0" t="16075" r="0" b="17067"/>
          <a:stretch/>
        </p:blipFill>
        <p:spPr>
          <a:xfrm>
            <a:off x="5502240" y="5241960"/>
            <a:ext cx="515880" cy="461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11"/>
          <a:srcRect l="0" t="16075" r="0" b="17067"/>
          <a:stretch/>
        </p:blipFill>
        <p:spPr>
          <a:xfrm>
            <a:off x="6708600" y="2738520"/>
            <a:ext cx="517680" cy="460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12"/>
          <a:srcRect l="0" t="16075" r="0" b="17067"/>
          <a:stretch/>
        </p:blipFill>
        <p:spPr>
          <a:xfrm>
            <a:off x="7485120" y="2637000"/>
            <a:ext cx="515880" cy="46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13"/>
          <a:srcRect l="0" t="16075" r="0" b="17067"/>
          <a:stretch/>
        </p:blipFill>
        <p:spPr>
          <a:xfrm>
            <a:off x="4370400" y="5392800"/>
            <a:ext cx="515880" cy="460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14"/>
          <a:srcRect l="0" t="16075" r="0" b="17067"/>
          <a:stretch/>
        </p:blipFill>
        <p:spPr>
          <a:xfrm>
            <a:off x="4572000" y="5950080"/>
            <a:ext cx="517680" cy="460080"/>
          </a:xfrm>
          <a:prstGeom prst="rect">
            <a:avLst/>
          </a:prstGeom>
          <a:ln w="0">
            <a:noFill/>
          </a:ln>
        </p:spPr>
      </p:pic>
      <p:sp>
        <p:nvSpPr>
          <p:cNvPr id="170" name="Полілінія 1"/>
          <p:cNvSpPr/>
          <p:nvPr/>
        </p:nvSpPr>
        <p:spPr>
          <a:xfrm>
            <a:off x="4797360" y="3179880"/>
            <a:ext cx="3205080" cy="1785960"/>
          </a:xfrm>
          <a:custGeom>
            <a:avLst/>
            <a:gdLst/>
            <a:ahLst/>
            <a:rect l="l" t="t" r="r" b="b"/>
            <a:pathLst>
              <a:path w="4272606" h="1786786">
                <a:moveTo>
                  <a:pt x="3144675" y="143279"/>
                </a:moveTo>
                <a:cubicBezTo>
                  <a:pt x="3314855" y="78509"/>
                  <a:pt x="2996826" y="203816"/>
                  <a:pt x="2854480" y="257579"/>
                </a:cubicBezTo>
                <a:cubicBezTo>
                  <a:pt x="2712134" y="311342"/>
                  <a:pt x="2636993" y="316317"/>
                  <a:pt x="2290600" y="465859"/>
                </a:cubicBezTo>
                <a:cubicBezTo>
                  <a:pt x="1785775" y="695517"/>
                  <a:pt x="1252375" y="890251"/>
                  <a:pt x="747550" y="1119909"/>
                </a:cubicBezTo>
                <a:cubicBezTo>
                  <a:pt x="565940" y="1218546"/>
                  <a:pt x="326439" y="1340889"/>
                  <a:pt x="202720" y="1415819"/>
                </a:cubicBezTo>
                <a:cubicBezTo>
                  <a:pt x="79001" y="1490749"/>
                  <a:pt x="-24822" y="1537951"/>
                  <a:pt x="5235" y="1569489"/>
                </a:cubicBezTo>
                <a:cubicBezTo>
                  <a:pt x="35292" y="1601027"/>
                  <a:pt x="290562" y="1585787"/>
                  <a:pt x="383060" y="1605049"/>
                </a:cubicBezTo>
                <a:cubicBezTo>
                  <a:pt x="475558" y="1624311"/>
                  <a:pt x="484025" y="1660929"/>
                  <a:pt x="560225" y="1685059"/>
                </a:cubicBezTo>
                <a:cubicBezTo>
                  <a:pt x="636425" y="1709189"/>
                  <a:pt x="754853" y="1737870"/>
                  <a:pt x="903760" y="1743479"/>
                </a:cubicBezTo>
                <a:cubicBezTo>
                  <a:pt x="1052667" y="1749088"/>
                  <a:pt x="1341064" y="1711517"/>
                  <a:pt x="1453670" y="1718714"/>
                </a:cubicBezTo>
                <a:cubicBezTo>
                  <a:pt x="1566277" y="1725911"/>
                  <a:pt x="1534949" y="1784119"/>
                  <a:pt x="1579399" y="1786659"/>
                </a:cubicBezTo>
                <a:cubicBezTo>
                  <a:pt x="1623849" y="1789199"/>
                  <a:pt x="1706718" y="1753004"/>
                  <a:pt x="1802920" y="1743479"/>
                </a:cubicBezTo>
                <a:cubicBezTo>
                  <a:pt x="1899122" y="1733954"/>
                  <a:pt x="2032155" y="1730779"/>
                  <a:pt x="2156615" y="1729509"/>
                </a:cubicBezTo>
                <a:cubicBezTo>
                  <a:pt x="2281075" y="1728239"/>
                  <a:pt x="2432099" y="1738611"/>
                  <a:pt x="2549680" y="1735859"/>
                </a:cubicBezTo>
                <a:cubicBezTo>
                  <a:pt x="2667261" y="1733107"/>
                  <a:pt x="2862100" y="1712999"/>
                  <a:pt x="2862100" y="1712999"/>
                </a:cubicBezTo>
                <a:lnTo>
                  <a:pt x="3060220" y="1697759"/>
                </a:lnTo>
                <a:cubicBezTo>
                  <a:pt x="3126260" y="1691409"/>
                  <a:pt x="3258340" y="1674899"/>
                  <a:pt x="3258340" y="1674899"/>
                </a:cubicBezTo>
                <a:cubicBezTo>
                  <a:pt x="3330730" y="1667279"/>
                  <a:pt x="3380683" y="1649287"/>
                  <a:pt x="3494560" y="1652039"/>
                </a:cubicBezTo>
                <a:cubicBezTo>
                  <a:pt x="3608437" y="1654791"/>
                  <a:pt x="3850689" y="1688023"/>
                  <a:pt x="3941600" y="1691410"/>
                </a:cubicBezTo>
                <a:cubicBezTo>
                  <a:pt x="4032511" y="1694797"/>
                  <a:pt x="3987003" y="1671937"/>
                  <a:pt x="4040025" y="1672360"/>
                </a:cubicBezTo>
                <a:cubicBezTo>
                  <a:pt x="4093047" y="1672783"/>
                  <a:pt x="4243860" y="1723688"/>
                  <a:pt x="4250210" y="1671724"/>
                </a:cubicBezTo>
                <a:cubicBezTo>
                  <a:pt x="4284500" y="1373909"/>
                  <a:pt x="4268202" y="373890"/>
                  <a:pt x="4271800" y="74699"/>
                </a:cubicBezTo>
                <a:cubicBezTo>
                  <a:pt x="4084898" y="32683"/>
                  <a:pt x="3790470" y="40409"/>
                  <a:pt x="3662200" y="28979"/>
                </a:cubicBezTo>
                <a:cubicBezTo>
                  <a:pt x="3533930" y="17549"/>
                  <a:pt x="3588434" y="-12931"/>
                  <a:pt x="3502180" y="6119"/>
                </a:cubicBezTo>
                <a:cubicBezTo>
                  <a:pt x="3415926" y="25169"/>
                  <a:pt x="2974495" y="208049"/>
                  <a:pt x="3144675" y="143279"/>
                </a:cubicBezTo>
                <a:close/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ілінія 2"/>
          <p:cNvSpPr/>
          <p:nvPr/>
        </p:nvSpPr>
        <p:spPr>
          <a:xfrm>
            <a:off x="5683320" y="5524560"/>
            <a:ext cx="2303280" cy="1338120"/>
          </a:xfrm>
          <a:custGeom>
            <a:avLst/>
            <a:gdLst/>
            <a:ahLst/>
            <a:rect l="l" t="t" r="r" b="b"/>
            <a:pathLst>
              <a:path w="3071723" h="1338151">
                <a:moveTo>
                  <a:pt x="1626304" y="42863"/>
                </a:moveTo>
                <a:cubicBezTo>
                  <a:pt x="1546532" y="57547"/>
                  <a:pt x="1518751" y="57150"/>
                  <a:pt x="1469142" y="83344"/>
                </a:cubicBezTo>
                <a:cubicBezTo>
                  <a:pt x="1419533" y="109538"/>
                  <a:pt x="1401276" y="153591"/>
                  <a:pt x="1328648" y="200025"/>
                </a:cubicBezTo>
                <a:cubicBezTo>
                  <a:pt x="1256020" y="246459"/>
                  <a:pt x="1126242" y="302816"/>
                  <a:pt x="1033373" y="361950"/>
                </a:cubicBezTo>
                <a:cubicBezTo>
                  <a:pt x="940504" y="421084"/>
                  <a:pt x="868274" y="490140"/>
                  <a:pt x="771436" y="554831"/>
                </a:cubicBezTo>
                <a:cubicBezTo>
                  <a:pt x="674599" y="619522"/>
                  <a:pt x="545217" y="694928"/>
                  <a:pt x="452348" y="750094"/>
                </a:cubicBezTo>
                <a:cubicBezTo>
                  <a:pt x="359479" y="805260"/>
                  <a:pt x="288836" y="825103"/>
                  <a:pt x="214223" y="885825"/>
                </a:cubicBezTo>
                <a:cubicBezTo>
                  <a:pt x="139611" y="946547"/>
                  <a:pt x="-30252" y="1054894"/>
                  <a:pt x="4673" y="1114425"/>
                </a:cubicBezTo>
                <a:cubicBezTo>
                  <a:pt x="39598" y="1173956"/>
                  <a:pt x="312648" y="1206501"/>
                  <a:pt x="423773" y="1243013"/>
                </a:cubicBezTo>
                <a:cubicBezTo>
                  <a:pt x="534898" y="1279525"/>
                  <a:pt x="230892" y="1320006"/>
                  <a:pt x="671423" y="1333500"/>
                </a:cubicBezTo>
                <a:cubicBezTo>
                  <a:pt x="1111954" y="1346994"/>
                  <a:pt x="2260510" y="1327150"/>
                  <a:pt x="3066960" y="1323975"/>
                </a:cubicBezTo>
                <a:cubicBezTo>
                  <a:pt x="3070135" y="958850"/>
                  <a:pt x="3071723" y="661987"/>
                  <a:pt x="3071723" y="0"/>
                </a:cubicBezTo>
                <a:lnTo>
                  <a:pt x="2443073" y="19050"/>
                </a:lnTo>
                <a:cubicBezTo>
                  <a:pt x="2298611" y="23812"/>
                  <a:pt x="2285117" y="28575"/>
                  <a:pt x="2204948" y="28575"/>
                </a:cubicBezTo>
                <a:cubicBezTo>
                  <a:pt x="2124779" y="28575"/>
                  <a:pt x="2058502" y="16669"/>
                  <a:pt x="1962061" y="19050"/>
                </a:cubicBezTo>
                <a:cubicBezTo>
                  <a:pt x="1865620" y="21431"/>
                  <a:pt x="1734254" y="7938"/>
                  <a:pt x="1626304" y="42863"/>
                </a:cubicBezTo>
                <a:close/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кутник 3"/>
          <p:cNvSpPr/>
          <p:nvPr/>
        </p:nvSpPr>
        <p:spPr>
          <a:xfrm>
            <a:off x="4570560" y="0"/>
            <a:ext cx="3430440" cy="677880"/>
          </a:xfrm>
          <a:prstGeom prst="rect">
            <a:avLst/>
          </a:prstGeom>
          <a:solidFill>
            <a:srgbClr val="c7d2b7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Форма землеволодіння на селі після 1861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кутник 18"/>
          <p:cNvSpPr/>
          <p:nvPr/>
        </p:nvSpPr>
        <p:spPr>
          <a:xfrm>
            <a:off x="131760" y="4416480"/>
            <a:ext cx="3203640" cy="2395440"/>
          </a:xfrm>
          <a:prstGeom prst="rect">
            <a:avLst/>
          </a:prstGeom>
          <a:solidFill>
            <a:srgbClr val="d4deb6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1d1c15"/>
                </a:solidFill>
                <a:latin typeface="Trebuchet MS"/>
                <a:ea typeface="Arial"/>
              </a:rPr>
              <a:t>Общинне землеволодіння – вся селянська земля була у спільній власності общини. В певні терміни земля перерозподілялася між селянськими господарствами в залежності від розміру сім’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Групувати 19"/>
          <p:cNvGrpSpPr/>
          <p:nvPr/>
        </p:nvGrpSpPr>
        <p:grpSpPr>
          <a:xfrm>
            <a:off x="3007800" y="3852720"/>
            <a:ext cx="3616920" cy="2327400"/>
            <a:chOff x="3007800" y="3852720"/>
            <a:chExt cx="3616920" cy="2327400"/>
          </a:xfrm>
        </p:grpSpPr>
        <p:sp>
          <p:nvSpPr>
            <p:cNvPr id="175" name="Пряма сполучна лінія 20"/>
            <p:cNvSpPr/>
            <p:nvPr/>
          </p:nvSpPr>
          <p:spPr>
            <a:xfrm flipH="1" flipV="1">
              <a:off x="5443200" y="3852720"/>
              <a:ext cx="1181520" cy="728280"/>
            </a:xfrm>
            <a:prstGeom prst="line">
              <a:avLst/>
            </a:prstGeom>
            <a:ln cap="rnd"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а сполучна лінія 21"/>
            <p:cNvSpPr/>
            <p:nvPr/>
          </p:nvSpPr>
          <p:spPr>
            <a:xfrm flipH="1">
              <a:off x="3007800" y="3852720"/>
              <a:ext cx="2429640" cy="0"/>
            </a:xfrm>
            <a:prstGeom prst="line">
              <a:avLst/>
            </a:prstGeom>
            <a:ln cap="rnd"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 сполучна лінія 34"/>
            <p:cNvSpPr/>
            <p:nvPr/>
          </p:nvSpPr>
          <p:spPr>
            <a:xfrm flipH="1" flipV="1">
              <a:off x="5442840" y="3876840"/>
              <a:ext cx="1007640" cy="2303280"/>
            </a:xfrm>
            <a:prstGeom prst="line">
              <a:avLst/>
            </a:prstGeom>
            <a:ln cap="rnd"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кутник 11"/>
          <p:cNvSpPr/>
          <p:nvPr/>
        </p:nvSpPr>
        <p:spPr>
          <a:xfrm>
            <a:off x="2994120" y="3417840"/>
            <a:ext cx="241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Общинне землеволоді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олілінія 12"/>
          <p:cNvSpPr/>
          <p:nvPr/>
        </p:nvSpPr>
        <p:spPr>
          <a:xfrm>
            <a:off x="7261200" y="3281400"/>
            <a:ext cx="727200" cy="250920"/>
          </a:xfrm>
          <a:custGeom>
            <a:avLst/>
            <a:gdLst/>
            <a:ahLst/>
            <a:rect l="l" t="t" r="r" b="b"/>
            <a:pathLst>
              <a:path w="968375" h="252412">
                <a:moveTo>
                  <a:pt x="0" y="0"/>
                </a:moveTo>
                <a:cubicBezTo>
                  <a:pt x="102658" y="63500"/>
                  <a:pt x="228335" y="144462"/>
                  <a:pt x="389731" y="186531"/>
                </a:cubicBezTo>
                <a:cubicBezTo>
                  <a:pt x="551127" y="228600"/>
                  <a:pt x="745066" y="239712"/>
                  <a:pt x="968375" y="252412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олілінія 13"/>
          <p:cNvSpPr/>
          <p:nvPr/>
        </p:nvSpPr>
        <p:spPr>
          <a:xfrm>
            <a:off x="6970680" y="3440160"/>
            <a:ext cx="1015920" cy="449280"/>
          </a:xfrm>
          <a:custGeom>
            <a:avLst/>
            <a:gdLst/>
            <a:ahLst/>
            <a:rect l="l" t="t" r="r" b="b"/>
            <a:pathLst>
              <a:path w="1357311" h="449263">
                <a:moveTo>
                  <a:pt x="0" y="0"/>
                </a:moveTo>
                <a:cubicBezTo>
                  <a:pt x="180975" y="96308"/>
                  <a:pt x="387350" y="206111"/>
                  <a:pt x="613568" y="280988"/>
                </a:cubicBezTo>
                <a:cubicBezTo>
                  <a:pt x="839786" y="355865"/>
                  <a:pt x="1068386" y="397404"/>
                  <a:pt x="1357311" y="449263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олілінія 14"/>
          <p:cNvSpPr/>
          <p:nvPr/>
        </p:nvSpPr>
        <p:spPr>
          <a:xfrm>
            <a:off x="6573960" y="3637080"/>
            <a:ext cx="1411200" cy="780840"/>
          </a:xfrm>
          <a:custGeom>
            <a:avLst/>
            <a:gdLst/>
            <a:ahLst/>
            <a:rect l="l" t="t" r="r" b="b"/>
            <a:pathLst>
              <a:path w="1883569" h="782637">
                <a:moveTo>
                  <a:pt x="0" y="0"/>
                </a:moveTo>
                <a:lnTo>
                  <a:pt x="1883569" y="782637"/>
                </a:ln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олілінія 15"/>
          <p:cNvSpPr/>
          <p:nvPr/>
        </p:nvSpPr>
        <p:spPr>
          <a:xfrm>
            <a:off x="6076800" y="3919680"/>
            <a:ext cx="1581480" cy="919080"/>
          </a:xfrm>
          <a:custGeom>
            <a:avLst/>
            <a:gdLst/>
            <a:ahLst/>
            <a:rect l="l" t="t" r="r" b="b"/>
            <a:pathLst>
              <a:path w="2108993" h="919162">
                <a:moveTo>
                  <a:pt x="0" y="0"/>
                </a:moveTo>
                <a:cubicBezTo>
                  <a:pt x="359833" y="114300"/>
                  <a:pt x="741494" y="232568"/>
                  <a:pt x="1092993" y="385762"/>
                </a:cubicBezTo>
                <a:cubicBezTo>
                  <a:pt x="1444492" y="538956"/>
                  <a:pt x="1774559" y="728662"/>
                  <a:pt x="2108993" y="919162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ілінія 16"/>
          <p:cNvSpPr/>
          <p:nvPr/>
        </p:nvSpPr>
        <p:spPr>
          <a:xfrm>
            <a:off x="4986360" y="4089240"/>
            <a:ext cx="1452600" cy="508320"/>
          </a:xfrm>
          <a:custGeom>
            <a:avLst/>
            <a:gdLst/>
            <a:ahLst/>
            <a:rect l="l" t="t" r="r" b="b"/>
            <a:pathLst>
              <a:path w="1936750" h="508000">
                <a:moveTo>
                  <a:pt x="0" y="508000"/>
                </a:moveTo>
                <a:cubicBezTo>
                  <a:pt x="236008" y="473075"/>
                  <a:pt x="572558" y="427567"/>
                  <a:pt x="895350" y="342900"/>
                </a:cubicBezTo>
                <a:cubicBezTo>
                  <a:pt x="1218142" y="258233"/>
                  <a:pt x="1567391" y="130175"/>
                  <a:pt x="193675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олілінія 17"/>
          <p:cNvSpPr/>
          <p:nvPr/>
        </p:nvSpPr>
        <p:spPr>
          <a:xfrm>
            <a:off x="5189400" y="4206960"/>
            <a:ext cx="1505160" cy="619200"/>
          </a:xfrm>
          <a:custGeom>
            <a:avLst/>
            <a:gdLst/>
            <a:ahLst/>
            <a:rect l="l" t="t" r="r" b="b"/>
            <a:pathLst>
              <a:path w="2006600" h="619125">
                <a:moveTo>
                  <a:pt x="0" y="619125"/>
                </a:moveTo>
                <a:cubicBezTo>
                  <a:pt x="220133" y="574675"/>
                  <a:pt x="976842" y="442912"/>
                  <a:pt x="1311275" y="339725"/>
                </a:cubicBezTo>
                <a:cubicBezTo>
                  <a:pt x="1645708" y="236538"/>
                  <a:pt x="1834091" y="115358"/>
                  <a:pt x="200660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олілінія 35"/>
          <p:cNvSpPr/>
          <p:nvPr/>
        </p:nvSpPr>
        <p:spPr>
          <a:xfrm>
            <a:off x="6346800" y="4416480"/>
            <a:ext cx="714240" cy="476280"/>
          </a:xfrm>
          <a:custGeom>
            <a:avLst/>
            <a:gdLst/>
            <a:ahLst/>
            <a:rect l="l" t="t" r="r" b="b"/>
            <a:pathLst>
              <a:path w="952500" h="476250">
                <a:moveTo>
                  <a:pt x="0" y="476250"/>
                </a:moveTo>
                <a:cubicBezTo>
                  <a:pt x="211666" y="395816"/>
                  <a:pt x="396875" y="323850"/>
                  <a:pt x="555625" y="244475"/>
                </a:cubicBezTo>
                <a:cubicBezTo>
                  <a:pt x="714375" y="165100"/>
                  <a:pt x="842433" y="80433"/>
                  <a:pt x="95250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олілінія 36"/>
          <p:cNvSpPr/>
          <p:nvPr/>
        </p:nvSpPr>
        <p:spPr>
          <a:xfrm>
            <a:off x="6035760" y="5562720"/>
            <a:ext cx="1235160" cy="1226880"/>
          </a:xfrm>
          <a:custGeom>
            <a:avLst/>
            <a:gdLst/>
            <a:ahLst/>
            <a:rect l="l" t="t" r="r" b="b"/>
            <a:pathLst>
              <a:path w="1645920" h="1226820">
                <a:moveTo>
                  <a:pt x="0" y="1226820"/>
                </a:moveTo>
                <a:cubicBezTo>
                  <a:pt x="192405" y="1156335"/>
                  <a:pt x="384810" y="1085850"/>
                  <a:pt x="563880" y="967740"/>
                </a:cubicBezTo>
                <a:cubicBezTo>
                  <a:pt x="742950" y="849630"/>
                  <a:pt x="916940" y="643890"/>
                  <a:pt x="1074420" y="518160"/>
                </a:cubicBezTo>
                <a:cubicBezTo>
                  <a:pt x="1231900" y="392430"/>
                  <a:pt x="1413510" y="299720"/>
                  <a:pt x="1508760" y="213360"/>
                </a:cubicBezTo>
                <a:cubicBezTo>
                  <a:pt x="1604010" y="127000"/>
                  <a:pt x="1624965" y="63500"/>
                  <a:pt x="164592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ілінія 38"/>
          <p:cNvSpPr/>
          <p:nvPr/>
        </p:nvSpPr>
        <p:spPr>
          <a:xfrm>
            <a:off x="6647040" y="5570640"/>
            <a:ext cx="909360" cy="1271520"/>
          </a:xfrm>
          <a:custGeom>
            <a:avLst/>
            <a:gdLst/>
            <a:ahLst/>
            <a:rect l="l" t="t" r="r" b="b"/>
            <a:pathLst>
              <a:path w="1211580" h="1272540">
                <a:moveTo>
                  <a:pt x="0" y="1272540"/>
                </a:moveTo>
                <a:cubicBezTo>
                  <a:pt x="137795" y="1172210"/>
                  <a:pt x="275590" y="1071880"/>
                  <a:pt x="449580" y="906780"/>
                </a:cubicBezTo>
                <a:cubicBezTo>
                  <a:pt x="623570" y="741680"/>
                  <a:pt x="916940" y="433070"/>
                  <a:pt x="1043940" y="281940"/>
                </a:cubicBezTo>
                <a:cubicBezTo>
                  <a:pt x="1170940" y="130810"/>
                  <a:pt x="1191260" y="65405"/>
                  <a:pt x="121158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олілінія 39"/>
          <p:cNvSpPr/>
          <p:nvPr/>
        </p:nvSpPr>
        <p:spPr>
          <a:xfrm>
            <a:off x="7361280" y="5540400"/>
            <a:ext cx="538200" cy="1301760"/>
          </a:xfrm>
          <a:custGeom>
            <a:avLst/>
            <a:gdLst/>
            <a:ahLst/>
            <a:rect l="l" t="t" r="r" b="b"/>
            <a:pathLst>
              <a:path w="716280" h="1303020">
                <a:moveTo>
                  <a:pt x="0" y="1303020"/>
                </a:moveTo>
                <a:cubicBezTo>
                  <a:pt x="139065" y="1110615"/>
                  <a:pt x="278130" y="918210"/>
                  <a:pt x="373380" y="746760"/>
                </a:cubicBezTo>
                <a:cubicBezTo>
                  <a:pt x="468630" y="575310"/>
                  <a:pt x="514350" y="398780"/>
                  <a:pt x="571500" y="274320"/>
                </a:cubicBezTo>
                <a:cubicBezTo>
                  <a:pt x="628650" y="149860"/>
                  <a:pt x="672465" y="74930"/>
                  <a:pt x="71628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71840" y="10713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Суть рефор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8" descr=""/>
          <p:cNvPicPr/>
          <p:nvPr/>
        </p:nvPicPr>
        <p:blipFill>
          <a:blip r:embed="rId2"/>
          <a:stretch/>
        </p:blipFill>
        <p:spPr>
          <a:xfrm>
            <a:off x="-12600" y="0"/>
            <a:ext cx="9169200" cy="1395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0" y="1657440"/>
            <a:ext cx="47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Вихід селян з общини і отримання власного земельного наділу – </a:t>
            </a: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“відрубу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приватна власність на земл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перерозподіл землі на користь заможних селя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кредитна допомога селянам через Селянський банк – позика на </a:t>
            </a: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55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ро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переселення селян за Урал і на Далекий Схі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9" descr="Файл:Stolypin by Repin.jpg"/>
          <p:cNvPicPr/>
          <p:nvPr/>
        </p:nvPicPr>
        <p:blipFill>
          <a:blip r:embed="rId3"/>
          <a:stretch/>
        </p:blipFill>
        <p:spPr>
          <a:xfrm>
            <a:off x="5500800" y="1714680"/>
            <a:ext cx="3078000" cy="471456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9"/>
          <p:cNvSpPr/>
          <p:nvPr/>
        </p:nvSpPr>
        <p:spPr>
          <a:xfrm>
            <a:off x="5000760" y="6273720"/>
            <a:ext cx="40003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. А. Столипін. Портрет роботи І.Рєпіна (19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Admin\Мои документы\Завантаження\1322201_original.jpg"/>
          <p:cNvPicPr/>
          <p:nvPr/>
        </p:nvPicPr>
        <p:blipFill>
          <a:blip r:embed="rId2"/>
          <a:stretch/>
        </p:blipFill>
        <p:spPr>
          <a:xfrm>
            <a:off x="1143000" y="15840"/>
            <a:ext cx="6858000" cy="6842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3"/>
          <a:srcRect l="0" t="16075" r="0" b="17067"/>
          <a:stretch/>
        </p:blipFill>
        <p:spPr>
          <a:xfrm>
            <a:off x="4896000" y="4941720"/>
            <a:ext cx="517320" cy="460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4"/>
          <a:srcRect l="0" t="16075" r="0" b="17067"/>
          <a:stretch/>
        </p:blipFill>
        <p:spPr>
          <a:xfrm>
            <a:off x="4381560" y="4722840"/>
            <a:ext cx="517320" cy="461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5"/>
          <a:srcRect l="0" t="16075" r="0" b="17067"/>
          <a:stretch/>
        </p:blipFill>
        <p:spPr>
          <a:xfrm>
            <a:off x="4194000" y="4251240"/>
            <a:ext cx="517680" cy="46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6"/>
          <a:srcRect l="0" t="16075" r="0" b="17067"/>
          <a:stretch/>
        </p:blipFill>
        <p:spPr>
          <a:xfrm>
            <a:off x="4984920" y="5392800"/>
            <a:ext cx="517320" cy="460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7"/>
          <a:srcRect l="0" t="16075" r="0" b="17067"/>
          <a:stretch/>
        </p:blipFill>
        <p:spPr>
          <a:xfrm>
            <a:off x="5761080" y="3206880"/>
            <a:ext cx="515880" cy="460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8"/>
          <a:srcRect l="0" t="16075" r="0" b="17067"/>
          <a:stretch/>
        </p:blipFill>
        <p:spPr>
          <a:xfrm>
            <a:off x="6192720" y="2925720"/>
            <a:ext cx="515880" cy="46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9"/>
          <a:srcRect l="0" t="16075" r="0" b="17067"/>
          <a:stretch/>
        </p:blipFill>
        <p:spPr>
          <a:xfrm>
            <a:off x="5243400" y="5853240"/>
            <a:ext cx="517680" cy="460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10"/>
          <a:srcRect l="0" t="16075" r="0" b="17067"/>
          <a:stretch/>
        </p:blipFill>
        <p:spPr>
          <a:xfrm>
            <a:off x="5502240" y="5241960"/>
            <a:ext cx="515880" cy="461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11"/>
          <a:srcRect l="0" t="16075" r="0" b="17067"/>
          <a:stretch/>
        </p:blipFill>
        <p:spPr>
          <a:xfrm>
            <a:off x="6708600" y="2738520"/>
            <a:ext cx="517680" cy="460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12"/>
          <a:srcRect l="0" t="16075" r="0" b="17067"/>
          <a:stretch/>
        </p:blipFill>
        <p:spPr>
          <a:xfrm>
            <a:off x="7485120" y="2637000"/>
            <a:ext cx="515880" cy="460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13"/>
          <a:srcRect l="0" t="16075" r="0" b="17067"/>
          <a:stretch/>
        </p:blipFill>
        <p:spPr>
          <a:xfrm>
            <a:off x="4370400" y="5392800"/>
            <a:ext cx="515880" cy="460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14"/>
          <a:srcRect l="0" t="16075" r="0" b="17067"/>
          <a:stretch/>
        </p:blipFill>
        <p:spPr>
          <a:xfrm>
            <a:off x="4572000" y="5950080"/>
            <a:ext cx="517680" cy="460080"/>
          </a:xfrm>
          <a:prstGeom prst="rect">
            <a:avLst/>
          </a:prstGeom>
          <a:ln w="0">
            <a:noFill/>
          </a:ln>
        </p:spPr>
      </p:pic>
      <p:sp>
        <p:nvSpPr>
          <p:cNvPr id="210" name="Полілінія 1"/>
          <p:cNvSpPr/>
          <p:nvPr/>
        </p:nvSpPr>
        <p:spPr>
          <a:xfrm>
            <a:off x="4797360" y="3179880"/>
            <a:ext cx="3205080" cy="1785960"/>
          </a:xfrm>
          <a:custGeom>
            <a:avLst/>
            <a:gdLst/>
            <a:ahLst/>
            <a:rect l="l" t="t" r="r" b="b"/>
            <a:pathLst>
              <a:path w="4272606" h="1786786">
                <a:moveTo>
                  <a:pt x="3144675" y="143279"/>
                </a:moveTo>
                <a:cubicBezTo>
                  <a:pt x="3314855" y="78509"/>
                  <a:pt x="2996826" y="203816"/>
                  <a:pt x="2854480" y="257579"/>
                </a:cubicBezTo>
                <a:cubicBezTo>
                  <a:pt x="2712134" y="311342"/>
                  <a:pt x="2636993" y="316317"/>
                  <a:pt x="2290600" y="465859"/>
                </a:cubicBezTo>
                <a:cubicBezTo>
                  <a:pt x="1785775" y="695517"/>
                  <a:pt x="1252375" y="890251"/>
                  <a:pt x="747550" y="1119909"/>
                </a:cubicBezTo>
                <a:cubicBezTo>
                  <a:pt x="565940" y="1218546"/>
                  <a:pt x="326439" y="1340889"/>
                  <a:pt x="202720" y="1415819"/>
                </a:cubicBezTo>
                <a:cubicBezTo>
                  <a:pt x="79001" y="1490749"/>
                  <a:pt x="-24822" y="1537951"/>
                  <a:pt x="5235" y="1569489"/>
                </a:cubicBezTo>
                <a:cubicBezTo>
                  <a:pt x="35292" y="1601027"/>
                  <a:pt x="290562" y="1585787"/>
                  <a:pt x="383060" y="1605049"/>
                </a:cubicBezTo>
                <a:cubicBezTo>
                  <a:pt x="475558" y="1624311"/>
                  <a:pt x="484025" y="1660929"/>
                  <a:pt x="560225" y="1685059"/>
                </a:cubicBezTo>
                <a:cubicBezTo>
                  <a:pt x="636425" y="1709189"/>
                  <a:pt x="754853" y="1737870"/>
                  <a:pt x="903760" y="1743479"/>
                </a:cubicBezTo>
                <a:cubicBezTo>
                  <a:pt x="1052667" y="1749088"/>
                  <a:pt x="1341064" y="1711517"/>
                  <a:pt x="1453670" y="1718714"/>
                </a:cubicBezTo>
                <a:cubicBezTo>
                  <a:pt x="1566277" y="1725911"/>
                  <a:pt x="1534949" y="1784119"/>
                  <a:pt x="1579399" y="1786659"/>
                </a:cubicBezTo>
                <a:cubicBezTo>
                  <a:pt x="1623849" y="1789199"/>
                  <a:pt x="1706718" y="1753004"/>
                  <a:pt x="1802920" y="1743479"/>
                </a:cubicBezTo>
                <a:cubicBezTo>
                  <a:pt x="1899122" y="1733954"/>
                  <a:pt x="2032155" y="1730779"/>
                  <a:pt x="2156615" y="1729509"/>
                </a:cubicBezTo>
                <a:cubicBezTo>
                  <a:pt x="2281075" y="1728239"/>
                  <a:pt x="2432099" y="1738611"/>
                  <a:pt x="2549680" y="1735859"/>
                </a:cubicBezTo>
                <a:cubicBezTo>
                  <a:pt x="2667261" y="1733107"/>
                  <a:pt x="2862100" y="1712999"/>
                  <a:pt x="2862100" y="1712999"/>
                </a:cubicBezTo>
                <a:lnTo>
                  <a:pt x="3060220" y="1697759"/>
                </a:lnTo>
                <a:cubicBezTo>
                  <a:pt x="3126260" y="1691409"/>
                  <a:pt x="3258340" y="1674899"/>
                  <a:pt x="3258340" y="1674899"/>
                </a:cubicBezTo>
                <a:cubicBezTo>
                  <a:pt x="3330730" y="1667279"/>
                  <a:pt x="3380683" y="1649287"/>
                  <a:pt x="3494560" y="1652039"/>
                </a:cubicBezTo>
                <a:cubicBezTo>
                  <a:pt x="3608437" y="1654791"/>
                  <a:pt x="3850689" y="1688023"/>
                  <a:pt x="3941600" y="1691410"/>
                </a:cubicBezTo>
                <a:cubicBezTo>
                  <a:pt x="4032511" y="1694797"/>
                  <a:pt x="3987003" y="1671937"/>
                  <a:pt x="4040025" y="1672360"/>
                </a:cubicBezTo>
                <a:cubicBezTo>
                  <a:pt x="4093047" y="1672783"/>
                  <a:pt x="4243860" y="1723688"/>
                  <a:pt x="4250210" y="1671724"/>
                </a:cubicBezTo>
                <a:cubicBezTo>
                  <a:pt x="4284500" y="1373909"/>
                  <a:pt x="4268202" y="373890"/>
                  <a:pt x="4271800" y="74699"/>
                </a:cubicBezTo>
                <a:cubicBezTo>
                  <a:pt x="4084898" y="32683"/>
                  <a:pt x="3790470" y="40409"/>
                  <a:pt x="3662200" y="28979"/>
                </a:cubicBezTo>
                <a:cubicBezTo>
                  <a:pt x="3533930" y="17549"/>
                  <a:pt x="3588434" y="-12931"/>
                  <a:pt x="3502180" y="6119"/>
                </a:cubicBezTo>
                <a:cubicBezTo>
                  <a:pt x="3415926" y="25169"/>
                  <a:pt x="2974495" y="208049"/>
                  <a:pt x="3144675" y="143279"/>
                </a:cubicBezTo>
                <a:close/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олілінія 2"/>
          <p:cNvSpPr/>
          <p:nvPr/>
        </p:nvSpPr>
        <p:spPr>
          <a:xfrm>
            <a:off x="5683320" y="5524560"/>
            <a:ext cx="2303280" cy="1338120"/>
          </a:xfrm>
          <a:custGeom>
            <a:avLst/>
            <a:gdLst/>
            <a:ahLst/>
            <a:rect l="l" t="t" r="r" b="b"/>
            <a:pathLst>
              <a:path w="3071723" h="1338151">
                <a:moveTo>
                  <a:pt x="1626304" y="42863"/>
                </a:moveTo>
                <a:cubicBezTo>
                  <a:pt x="1546532" y="57547"/>
                  <a:pt x="1518751" y="57150"/>
                  <a:pt x="1469142" y="83344"/>
                </a:cubicBezTo>
                <a:cubicBezTo>
                  <a:pt x="1419533" y="109538"/>
                  <a:pt x="1401276" y="153591"/>
                  <a:pt x="1328648" y="200025"/>
                </a:cubicBezTo>
                <a:cubicBezTo>
                  <a:pt x="1256020" y="246459"/>
                  <a:pt x="1126242" y="302816"/>
                  <a:pt x="1033373" y="361950"/>
                </a:cubicBezTo>
                <a:cubicBezTo>
                  <a:pt x="940504" y="421084"/>
                  <a:pt x="868274" y="490140"/>
                  <a:pt x="771436" y="554831"/>
                </a:cubicBezTo>
                <a:cubicBezTo>
                  <a:pt x="674599" y="619522"/>
                  <a:pt x="545217" y="694928"/>
                  <a:pt x="452348" y="750094"/>
                </a:cubicBezTo>
                <a:cubicBezTo>
                  <a:pt x="359479" y="805260"/>
                  <a:pt x="288836" y="825103"/>
                  <a:pt x="214223" y="885825"/>
                </a:cubicBezTo>
                <a:cubicBezTo>
                  <a:pt x="139611" y="946547"/>
                  <a:pt x="-30252" y="1054894"/>
                  <a:pt x="4673" y="1114425"/>
                </a:cubicBezTo>
                <a:cubicBezTo>
                  <a:pt x="39598" y="1173956"/>
                  <a:pt x="312648" y="1206501"/>
                  <a:pt x="423773" y="1243013"/>
                </a:cubicBezTo>
                <a:cubicBezTo>
                  <a:pt x="534898" y="1279525"/>
                  <a:pt x="230892" y="1320006"/>
                  <a:pt x="671423" y="1333500"/>
                </a:cubicBezTo>
                <a:cubicBezTo>
                  <a:pt x="1111954" y="1346994"/>
                  <a:pt x="2260510" y="1327150"/>
                  <a:pt x="3066960" y="1323975"/>
                </a:cubicBezTo>
                <a:cubicBezTo>
                  <a:pt x="3070135" y="958850"/>
                  <a:pt x="3071723" y="661987"/>
                  <a:pt x="3071723" y="0"/>
                </a:cubicBezTo>
                <a:lnTo>
                  <a:pt x="2443073" y="19050"/>
                </a:lnTo>
                <a:cubicBezTo>
                  <a:pt x="2298611" y="23812"/>
                  <a:pt x="2285117" y="28575"/>
                  <a:pt x="2204948" y="28575"/>
                </a:cubicBezTo>
                <a:cubicBezTo>
                  <a:pt x="2124779" y="28575"/>
                  <a:pt x="2058502" y="16669"/>
                  <a:pt x="1962061" y="19050"/>
                </a:cubicBezTo>
                <a:cubicBezTo>
                  <a:pt x="1865620" y="21431"/>
                  <a:pt x="1734254" y="7938"/>
                  <a:pt x="1626304" y="42863"/>
                </a:cubicBezTo>
                <a:close/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кутник 3"/>
          <p:cNvSpPr/>
          <p:nvPr/>
        </p:nvSpPr>
        <p:spPr>
          <a:xfrm>
            <a:off x="4519440" y="0"/>
            <a:ext cx="3481560" cy="1009800"/>
          </a:xfrm>
          <a:prstGeom prst="rect">
            <a:avLst/>
          </a:prstGeom>
          <a:solidFill>
            <a:srgbClr val="c2cea9"/>
          </a:solidFill>
          <a:ln cap="rnd" w="9360">
            <a:solidFill>
              <a:srgbClr val="8ba2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000" spc="-1" strike="noStrike">
                <a:solidFill>
                  <a:srgbClr val="394329"/>
                </a:solidFill>
                <a:latin typeface="Century Gothic"/>
                <a:ea typeface="Arial"/>
              </a:rPr>
              <a:t>Форми землеволодіння на селі після Столипінської рефор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олілінія 42"/>
          <p:cNvSpPr/>
          <p:nvPr/>
        </p:nvSpPr>
        <p:spPr>
          <a:xfrm>
            <a:off x="3265560" y="2901960"/>
            <a:ext cx="3309840" cy="1006560"/>
          </a:xfrm>
          <a:custGeom>
            <a:avLst/>
            <a:gdLst/>
            <a:ahLst/>
            <a:rect l="l" t="t" r="r" b="b"/>
            <a:pathLst>
              <a:path w="4411245" h="1007198">
                <a:moveTo>
                  <a:pt x="4404767" y="405489"/>
                </a:moveTo>
                <a:cubicBezTo>
                  <a:pt x="4447335" y="562924"/>
                  <a:pt x="4275976" y="623702"/>
                  <a:pt x="4012474" y="710017"/>
                </a:cubicBezTo>
                <a:cubicBezTo>
                  <a:pt x="3748972" y="796332"/>
                  <a:pt x="3186974" y="958938"/>
                  <a:pt x="2953294" y="1007198"/>
                </a:cubicBezTo>
                <a:lnTo>
                  <a:pt x="2564674" y="946237"/>
                </a:lnTo>
                <a:cubicBezTo>
                  <a:pt x="2299902" y="977760"/>
                  <a:pt x="2292531" y="973088"/>
                  <a:pt x="2198914" y="929908"/>
                </a:cubicBezTo>
                <a:cubicBezTo>
                  <a:pt x="2105297" y="886728"/>
                  <a:pt x="2081711" y="759184"/>
                  <a:pt x="2002971" y="687157"/>
                </a:cubicBezTo>
                <a:cubicBezTo>
                  <a:pt x="1924231" y="615130"/>
                  <a:pt x="1862545" y="548002"/>
                  <a:pt x="1726474" y="497746"/>
                </a:cubicBezTo>
                <a:cubicBezTo>
                  <a:pt x="1590403" y="447490"/>
                  <a:pt x="1356360" y="462367"/>
                  <a:pt x="1186543" y="385623"/>
                </a:cubicBezTo>
                <a:cubicBezTo>
                  <a:pt x="1016726" y="308879"/>
                  <a:pt x="905328" y="97152"/>
                  <a:pt x="707571" y="37280"/>
                </a:cubicBezTo>
                <a:cubicBezTo>
                  <a:pt x="509814" y="-22592"/>
                  <a:pt x="254907" y="1901"/>
                  <a:pt x="0" y="26394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3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кутник 18"/>
          <p:cNvSpPr/>
          <p:nvPr/>
        </p:nvSpPr>
        <p:spPr>
          <a:xfrm>
            <a:off x="1143000" y="5386320"/>
            <a:ext cx="2951280" cy="1471680"/>
          </a:xfrm>
          <a:prstGeom prst="rect">
            <a:avLst/>
          </a:prstGeom>
          <a:solidFill>
            <a:srgbClr val="bfce92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394329"/>
                </a:solidFill>
                <a:latin typeface="Century Gothic"/>
                <a:ea typeface="Arial"/>
              </a:rPr>
              <a:t>Відруб </a:t>
            </a:r>
            <a:r>
              <a:rPr b="0" lang="uk-UA" sz="1800" spc="-1" strike="noStrike">
                <a:solidFill>
                  <a:srgbClr val="394329"/>
                </a:solidFill>
                <a:latin typeface="Century Gothic"/>
                <a:ea typeface="Arial"/>
              </a:rPr>
              <a:t>– цільна ділянка землі, яка переходила з колективної (общинної) у приватну власність селя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Групувати 19"/>
          <p:cNvGrpSpPr/>
          <p:nvPr/>
        </p:nvGrpSpPr>
        <p:grpSpPr>
          <a:xfrm>
            <a:off x="4902120" y="3709800"/>
            <a:ext cx="1536480" cy="2143080"/>
            <a:chOff x="4902120" y="3709800"/>
            <a:chExt cx="1536480" cy="2143080"/>
          </a:xfrm>
        </p:grpSpPr>
        <p:sp>
          <p:nvSpPr>
            <p:cNvPr id="216" name="Пряма сполучна лінія 20"/>
            <p:cNvSpPr/>
            <p:nvPr/>
          </p:nvSpPr>
          <p:spPr>
            <a:xfrm flipH="1" flipV="1">
              <a:off x="5760000" y="3710160"/>
              <a:ext cx="431640" cy="166320"/>
            </a:xfrm>
            <a:prstGeom prst="line">
              <a:avLst/>
            </a:prstGeom>
            <a:ln cap="rnd"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 сполучна лінія 21"/>
            <p:cNvSpPr/>
            <p:nvPr/>
          </p:nvSpPr>
          <p:spPr>
            <a:xfrm flipH="1">
              <a:off x="4902120" y="3710160"/>
              <a:ext cx="858240" cy="0"/>
            </a:xfrm>
            <a:prstGeom prst="line">
              <a:avLst/>
            </a:prstGeom>
            <a:ln cap="rnd"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а сполучна лінія 34"/>
            <p:cNvSpPr/>
            <p:nvPr/>
          </p:nvSpPr>
          <p:spPr>
            <a:xfrm flipH="1" flipV="1">
              <a:off x="5760000" y="3709800"/>
              <a:ext cx="678600" cy="2143080"/>
            </a:xfrm>
            <a:prstGeom prst="line">
              <a:avLst/>
            </a:prstGeom>
            <a:ln cap="rnd"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Полілінія 12"/>
          <p:cNvSpPr/>
          <p:nvPr/>
        </p:nvSpPr>
        <p:spPr>
          <a:xfrm>
            <a:off x="7261200" y="3281400"/>
            <a:ext cx="727200" cy="250920"/>
          </a:xfrm>
          <a:custGeom>
            <a:avLst/>
            <a:gdLst/>
            <a:ahLst/>
            <a:rect l="l" t="t" r="r" b="b"/>
            <a:pathLst>
              <a:path w="968375" h="252412">
                <a:moveTo>
                  <a:pt x="0" y="0"/>
                </a:moveTo>
                <a:cubicBezTo>
                  <a:pt x="102658" y="63500"/>
                  <a:pt x="228335" y="144462"/>
                  <a:pt x="389731" y="186531"/>
                </a:cubicBezTo>
                <a:cubicBezTo>
                  <a:pt x="551127" y="228600"/>
                  <a:pt x="745066" y="239712"/>
                  <a:pt x="968375" y="252412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олілінія 13"/>
          <p:cNvSpPr/>
          <p:nvPr/>
        </p:nvSpPr>
        <p:spPr>
          <a:xfrm>
            <a:off x="6970680" y="3440160"/>
            <a:ext cx="1015920" cy="449280"/>
          </a:xfrm>
          <a:custGeom>
            <a:avLst/>
            <a:gdLst/>
            <a:ahLst/>
            <a:rect l="l" t="t" r="r" b="b"/>
            <a:pathLst>
              <a:path w="1357311" h="449263">
                <a:moveTo>
                  <a:pt x="0" y="0"/>
                </a:moveTo>
                <a:cubicBezTo>
                  <a:pt x="180975" y="96308"/>
                  <a:pt x="387350" y="206111"/>
                  <a:pt x="613568" y="280988"/>
                </a:cubicBezTo>
                <a:cubicBezTo>
                  <a:pt x="839786" y="355865"/>
                  <a:pt x="1068386" y="397404"/>
                  <a:pt x="1357311" y="449263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лілінія 14"/>
          <p:cNvSpPr/>
          <p:nvPr/>
        </p:nvSpPr>
        <p:spPr>
          <a:xfrm>
            <a:off x="6573960" y="3637080"/>
            <a:ext cx="1411200" cy="780840"/>
          </a:xfrm>
          <a:custGeom>
            <a:avLst/>
            <a:gdLst/>
            <a:ahLst/>
            <a:rect l="l" t="t" r="r" b="b"/>
            <a:pathLst>
              <a:path w="1883569" h="782637">
                <a:moveTo>
                  <a:pt x="0" y="0"/>
                </a:moveTo>
                <a:lnTo>
                  <a:pt x="1883569" y="782637"/>
                </a:ln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олілінія 15"/>
          <p:cNvSpPr/>
          <p:nvPr/>
        </p:nvSpPr>
        <p:spPr>
          <a:xfrm>
            <a:off x="6076800" y="3919680"/>
            <a:ext cx="1581480" cy="919080"/>
          </a:xfrm>
          <a:custGeom>
            <a:avLst/>
            <a:gdLst/>
            <a:ahLst/>
            <a:rect l="l" t="t" r="r" b="b"/>
            <a:pathLst>
              <a:path w="2108993" h="919162">
                <a:moveTo>
                  <a:pt x="0" y="0"/>
                </a:moveTo>
                <a:cubicBezTo>
                  <a:pt x="359833" y="114300"/>
                  <a:pt x="741494" y="232568"/>
                  <a:pt x="1092993" y="385762"/>
                </a:cubicBezTo>
                <a:cubicBezTo>
                  <a:pt x="1444492" y="538956"/>
                  <a:pt x="1774559" y="728662"/>
                  <a:pt x="2108993" y="919162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лілінія 16"/>
          <p:cNvSpPr/>
          <p:nvPr/>
        </p:nvSpPr>
        <p:spPr>
          <a:xfrm>
            <a:off x="4986360" y="4089240"/>
            <a:ext cx="1452600" cy="508320"/>
          </a:xfrm>
          <a:custGeom>
            <a:avLst/>
            <a:gdLst/>
            <a:ahLst/>
            <a:rect l="l" t="t" r="r" b="b"/>
            <a:pathLst>
              <a:path w="1936750" h="508000">
                <a:moveTo>
                  <a:pt x="0" y="508000"/>
                </a:moveTo>
                <a:cubicBezTo>
                  <a:pt x="236008" y="473075"/>
                  <a:pt x="572558" y="427567"/>
                  <a:pt x="895350" y="342900"/>
                </a:cubicBezTo>
                <a:cubicBezTo>
                  <a:pt x="1218142" y="258233"/>
                  <a:pt x="1567391" y="130175"/>
                  <a:pt x="193675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олілінія 17"/>
          <p:cNvSpPr/>
          <p:nvPr/>
        </p:nvSpPr>
        <p:spPr>
          <a:xfrm>
            <a:off x="5189400" y="4206960"/>
            <a:ext cx="1505160" cy="619200"/>
          </a:xfrm>
          <a:custGeom>
            <a:avLst/>
            <a:gdLst/>
            <a:ahLst/>
            <a:rect l="l" t="t" r="r" b="b"/>
            <a:pathLst>
              <a:path w="2006600" h="619125">
                <a:moveTo>
                  <a:pt x="0" y="619125"/>
                </a:moveTo>
                <a:cubicBezTo>
                  <a:pt x="220133" y="574675"/>
                  <a:pt x="976842" y="442912"/>
                  <a:pt x="1311275" y="339725"/>
                </a:cubicBezTo>
                <a:cubicBezTo>
                  <a:pt x="1645708" y="236538"/>
                  <a:pt x="1834091" y="115358"/>
                  <a:pt x="200660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олілінія 35"/>
          <p:cNvSpPr/>
          <p:nvPr/>
        </p:nvSpPr>
        <p:spPr>
          <a:xfrm>
            <a:off x="6346800" y="4416480"/>
            <a:ext cx="714240" cy="476280"/>
          </a:xfrm>
          <a:custGeom>
            <a:avLst/>
            <a:gdLst/>
            <a:ahLst/>
            <a:rect l="l" t="t" r="r" b="b"/>
            <a:pathLst>
              <a:path w="952500" h="476250">
                <a:moveTo>
                  <a:pt x="0" y="476250"/>
                </a:moveTo>
                <a:cubicBezTo>
                  <a:pt x="211666" y="395816"/>
                  <a:pt x="396875" y="323850"/>
                  <a:pt x="555625" y="244475"/>
                </a:cubicBezTo>
                <a:cubicBezTo>
                  <a:pt x="714375" y="165100"/>
                  <a:pt x="842433" y="80433"/>
                  <a:pt x="95250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олілінія 36"/>
          <p:cNvSpPr/>
          <p:nvPr/>
        </p:nvSpPr>
        <p:spPr>
          <a:xfrm>
            <a:off x="6035760" y="5562720"/>
            <a:ext cx="1235160" cy="1226880"/>
          </a:xfrm>
          <a:custGeom>
            <a:avLst/>
            <a:gdLst/>
            <a:ahLst/>
            <a:rect l="l" t="t" r="r" b="b"/>
            <a:pathLst>
              <a:path w="1645920" h="1226820">
                <a:moveTo>
                  <a:pt x="0" y="1226820"/>
                </a:moveTo>
                <a:cubicBezTo>
                  <a:pt x="192405" y="1156335"/>
                  <a:pt x="384810" y="1085850"/>
                  <a:pt x="563880" y="967740"/>
                </a:cubicBezTo>
                <a:cubicBezTo>
                  <a:pt x="742950" y="849630"/>
                  <a:pt x="916940" y="643890"/>
                  <a:pt x="1074420" y="518160"/>
                </a:cubicBezTo>
                <a:cubicBezTo>
                  <a:pt x="1231900" y="392430"/>
                  <a:pt x="1413510" y="299720"/>
                  <a:pt x="1508760" y="213360"/>
                </a:cubicBezTo>
                <a:cubicBezTo>
                  <a:pt x="1604010" y="127000"/>
                  <a:pt x="1624965" y="63500"/>
                  <a:pt x="164592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олілінія 38"/>
          <p:cNvSpPr/>
          <p:nvPr/>
        </p:nvSpPr>
        <p:spPr>
          <a:xfrm>
            <a:off x="6647040" y="5570640"/>
            <a:ext cx="909360" cy="1271520"/>
          </a:xfrm>
          <a:custGeom>
            <a:avLst/>
            <a:gdLst/>
            <a:ahLst/>
            <a:rect l="l" t="t" r="r" b="b"/>
            <a:pathLst>
              <a:path w="1211580" h="1272540">
                <a:moveTo>
                  <a:pt x="0" y="1272540"/>
                </a:moveTo>
                <a:cubicBezTo>
                  <a:pt x="137795" y="1172210"/>
                  <a:pt x="275590" y="1071880"/>
                  <a:pt x="449580" y="906780"/>
                </a:cubicBezTo>
                <a:cubicBezTo>
                  <a:pt x="623570" y="741680"/>
                  <a:pt x="916940" y="433070"/>
                  <a:pt x="1043940" y="281940"/>
                </a:cubicBezTo>
                <a:cubicBezTo>
                  <a:pt x="1170940" y="130810"/>
                  <a:pt x="1191260" y="65405"/>
                  <a:pt x="121158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ілінія 39"/>
          <p:cNvSpPr/>
          <p:nvPr/>
        </p:nvSpPr>
        <p:spPr>
          <a:xfrm>
            <a:off x="7361280" y="5540400"/>
            <a:ext cx="538200" cy="1301760"/>
          </a:xfrm>
          <a:custGeom>
            <a:avLst/>
            <a:gdLst/>
            <a:ahLst/>
            <a:rect l="l" t="t" r="r" b="b"/>
            <a:pathLst>
              <a:path w="716280" h="1303020">
                <a:moveTo>
                  <a:pt x="0" y="1303020"/>
                </a:moveTo>
                <a:cubicBezTo>
                  <a:pt x="139065" y="1110615"/>
                  <a:pt x="278130" y="918210"/>
                  <a:pt x="373380" y="746760"/>
                </a:cubicBezTo>
                <a:cubicBezTo>
                  <a:pt x="468630" y="575310"/>
                  <a:pt x="514350" y="398780"/>
                  <a:pt x="571500" y="274320"/>
                </a:cubicBezTo>
                <a:cubicBezTo>
                  <a:pt x="628650" y="149860"/>
                  <a:pt x="672465" y="74930"/>
                  <a:pt x="716280" y="0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3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олілінія 4"/>
          <p:cNvSpPr/>
          <p:nvPr/>
        </p:nvSpPr>
        <p:spPr>
          <a:xfrm>
            <a:off x="6093000" y="3635280"/>
            <a:ext cx="1896840" cy="1239840"/>
          </a:xfrm>
          <a:custGeom>
            <a:avLst/>
            <a:gdLst/>
            <a:ahLst/>
            <a:rect l="l" t="t" r="r" b="b"/>
            <a:pathLst>
              <a:path w="2531116" h="1241039">
                <a:moveTo>
                  <a:pt x="0" y="274320"/>
                </a:moveTo>
                <a:cubicBezTo>
                  <a:pt x="50800" y="235585"/>
                  <a:pt x="206798" y="197485"/>
                  <a:pt x="297180" y="160020"/>
                </a:cubicBezTo>
                <a:cubicBezTo>
                  <a:pt x="387562" y="122555"/>
                  <a:pt x="478790" y="76200"/>
                  <a:pt x="542290" y="49530"/>
                </a:cubicBezTo>
                <a:cubicBezTo>
                  <a:pt x="605790" y="22860"/>
                  <a:pt x="611505" y="8890"/>
                  <a:pt x="678180" y="0"/>
                </a:cubicBezTo>
                <a:cubicBezTo>
                  <a:pt x="741680" y="38735"/>
                  <a:pt x="967740" y="129540"/>
                  <a:pt x="967740" y="129540"/>
                </a:cubicBezTo>
                <a:lnTo>
                  <a:pt x="1783080" y="464820"/>
                </a:lnTo>
                <a:cubicBezTo>
                  <a:pt x="1981941" y="548217"/>
                  <a:pt x="2036445" y="576580"/>
                  <a:pt x="2160905" y="629920"/>
                </a:cubicBezTo>
                <a:cubicBezTo>
                  <a:pt x="2285365" y="683260"/>
                  <a:pt x="2447396" y="739352"/>
                  <a:pt x="2529840" y="784860"/>
                </a:cubicBezTo>
                <a:cubicBezTo>
                  <a:pt x="2532909" y="928793"/>
                  <a:pt x="2530475" y="1100455"/>
                  <a:pt x="2522220" y="1207770"/>
                </a:cubicBezTo>
                <a:cubicBezTo>
                  <a:pt x="2485390" y="1280160"/>
                  <a:pt x="2385060" y="1211686"/>
                  <a:pt x="2340610" y="1212850"/>
                </a:cubicBezTo>
                <a:lnTo>
                  <a:pt x="2255520" y="1214755"/>
                </a:lnTo>
                <a:cubicBezTo>
                  <a:pt x="2225569" y="1215919"/>
                  <a:pt x="2192655" y="1227985"/>
                  <a:pt x="2160905" y="1219836"/>
                </a:cubicBezTo>
                <a:cubicBezTo>
                  <a:pt x="2129155" y="1211687"/>
                  <a:pt x="2204826" y="1247881"/>
                  <a:pt x="2055495" y="1169035"/>
                </a:cubicBezTo>
                <a:cubicBezTo>
                  <a:pt x="1906164" y="1090189"/>
                  <a:pt x="1527810" y="866140"/>
                  <a:pt x="1264920" y="746760"/>
                </a:cubicBezTo>
                <a:cubicBezTo>
                  <a:pt x="1002030" y="627380"/>
                  <a:pt x="698500" y="524510"/>
                  <a:pt x="487680" y="449580"/>
                </a:cubicBezTo>
                <a:cubicBezTo>
                  <a:pt x="276860" y="374650"/>
                  <a:pt x="31750" y="322580"/>
                  <a:pt x="0" y="274320"/>
                </a:cubicBez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олілінія 40"/>
          <p:cNvSpPr/>
          <p:nvPr/>
        </p:nvSpPr>
        <p:spPr>
          <a:xfrm>
            <a:off x="5699160" y="5565600"/>
            <a:ext cx="1563480" cy="1219320"/>
          </a:xfrm>
          <a:custGeom>
            <a:avLst/>
            <a:gdLst/>
            <a:ahLst/>
            <a:rect l="l" t="t" r="r" b="b"/>
            <a:pathLst>
              <a:path w="2085975" h="1219264">
                <a:moveTo>
                  <a:pt x="246856" y="833988"/>
                </a:moveTo>
                <a:cubicBezTo>
                  <a:pt x="151473" y="903044"/>
                  <a:pt x="11922" y="1006094"/>
                  <a:pt x="0" y="1064176"/>
                </a:cubicBezTo>
                <a:cubicBezTo>
                  <a:pt x="56694" y="1095559"/>
                  <a:pt x="322792" y="1156251"/>
                  <a:pt x="401638" y="1181651"/>
                </a:cubicBezTo>
                <a:cubicBezTo>
                  <a:pt x="480484" y="1207051"/>
                  <a:pt x="427567" y="1226630"/>
                  <a:pt x="473075" y="1216576"/>
                </a:cubicBezTo>
                <a:cubicBezTo>
                  <a:pt x="518583" y="1206522"/>
                  <a:pt x="581819" y="1167760"/>
                  <a:pt x="674688" y="1121326"/>
                </a:cubicBezTo>
                <a:cubicBezTo>
                  <a:pt x="767557" y="1074892"/>
                  <a:pt x="923396" y="1009804"/>
                  <a:pt x="1030288" y="937970"/>
                </a:cubicBezTo>
                <a:cubicBezTo>
                  <a:pt x="1137180" y="866136"/>
                  <a:pt x="1237588" y="760435"/>
                  <a:pt x="1316037" y="690320"/>
                </a:cubicBezTo>
                <a:cubicBezTo>
                  <a:pt x="1394486" y="620205"/>
                  <a:pt x="1437613" y="569008"/>
                  <a:pt x="1500981" y="517282"/>
                </a:cubicBezTo>
                <a:cubicBezTo>
                  <a:pt x="1564349" y="465556"/>
                  <a:pt x="1633405" y="423222"/>
                  <a:pt x="1696244" y="379963"/>
                </a:cubicBezTo>
                <a:cubicBezTo>
                  <a:pt x="1759083" y="336704"/>
                  <a:pt x="1820069" y="304557"/>
                  <a:pt x="1878013" y="257726"/>
                </a:cubicBezTo>
                <a:cubicBezTo>
                  <a:pt x="1935957" y="210895"/>
                  <a:pt x="2009246" y="140251"/>
                  <a:pt x="2043906" y="98976"/>
                </a:cubicBezTo>
                <a:cubicBezTo>
                  <a:pt x="2078566" y="57701"/>
                  <a:pt x="2065337" y="71063"/>
                  <a:pt x="2085975" y="10076"/>
                </a:cubicBezTo>
                <a:cubicBezTo>
                  <a:pt x="2028031" y="-5667"/>
                  <a:pt x="1798109" y="815"/>
                  <a:pt x="1712913" y="4519"/>
                </a:cubicBezTo>
                <a:cubicBezTo>
                  <a:pt x="1627717" y="8223"/>
                  <a:pt x="1618456" y="21585"/>
                  <a:pt x="1574800" y="32301"/>
                </a:cubicBezTo>
                <a:cubicBezTo>
                  <a:pt x="1531144" y="43017"/>
                  <a:pt x="1488019" y="46721"/>
                  <a:pt x="1450977" y="68814"/>
                </a:cubicBezTo>
                <a:cubicBezTo>
                  <a:pt x="1413935" y="90907"/>
                  <a:pt x="1383242" y="135488"/>
                  <a:pt x="1323975" y="174382"/>
                </a:cubicBezTo>
                <a:cubicBezTo>
                  <a:pt x="1264708" y="213276"/>
                  <a:pt x="1148027" y="273733"/>
                  <a:pt x="1095375" y="302176"/>
                </a:cubicBezTo>
                <a:cubicBezTo>
                  <a:pt x="1042723" y="330619"/>
                  <a:pt x="1058336" y="313686"/>
                  <a:pt x="1008065" y="345039"/>
                </a:cubicBezTo>
                <a:cubicBezTo>
                  <a:pt x="957795" y="376392"/>
                  <a:pt x="878286" y="441876"/>
                  <a:pt x="805658" y="492676"/>
                </a:cubicBezTo>
                <a:cubicBezTo>
                  <a:pt x="733030" y="543476"/>
                  <a:pt x="663445" y="592557"/>
                  <a:pt x="572296" y="649839"/>
                </a:cubicBezTo>
                <a:cubicBezTo>
                  <a:pt x="430876" y="738474"/>
                  <a:pt x="342239" y="764932"/>
                  <a:pt x="246856" y="833988"/>
                </a:cubicBezTo>
                <a:close/>
              </a:path>
            </a:pathLst>
          </a:custGeom>
          <a:blipFill rotWithShape="0">
            <a:blip r:embed="rId16"/>
            <a:srcRect/>
            <a:stretch/>
          </a:blipFill>
          <a:ln cap="rnd" w="9360">
            <a:solidFill>
              <a:srgbClr val="9d2d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кутник 11"/>
          <p:cNvSpPr/>
          <p:nvPr/>
        </p:nvSpPr>
        <p:spPr>
          <a:xfrm>
            <a:off x="2841480" y="1916280"/>
            <a:ext cx="8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Хуті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олілінія 43"/>
          <p:cNvSpPr/>
          <p:nvPr/>
        </p:nvSpPr>
        <p:spPr>
          <a:xfrm>
            <a:off x="1136520" y="2768760"/>
            <a:ext cx="2148120" cy="950760"/>
          </a:xfrm>
          <a:custGeom>
            <a:avLst/>
            <a:gdLst/>
            <a:ahLst/>
            <a:rect l="l" t="t" r="r" b="b"/>
            <a:pathLst>
              <a:path w="2865614" h="950614">
                <a:moveTo>
                  <a:pt x="2865614" y="228989"/>
                </a:moveTo>
                <a:cubicBezTo>
                  <a:pt x="2654249" y="295210"/>
                  <a:pt x="2403330" y="378233"/>
                  <a:pt x="2191947" y="451693"/>
                </a:cubicBezTo>
                <a:cubicBezTo>
                  <a:pt x="1980564" y="525153"/>
                  <a:pt x="1752796" y="604055"/>
                  <a:pt x="1597315" y="669747"/>
                </a:cubicBezTo>
                <a:cubicBezTo>
                  <a:pt x="1441835" y="735439"/>
                  <a:pt x="1428530" y="804855"/>
                  <a:pt x="1259064" y="845846"/>
                </a:cubicBezTo>
                <a:cubicBezTo>
                  <a:pt x="1089598" y="886837"/>
                  <a:pt x="772351" y="898430"/>
                  <a:pt x="580521" y="915696"/>
                </a:cubicBezTo>
                <a:cubicBezTo>
                  <a:pt x="388691" y="932962"/>
                  <a:pt x="198232" y="956105"/>
                  <a:pt x="108081" y="949441"/>
                </a:cubicBezTo>
                <a:cubicBezTo>
                  <a:pt x="17930" y="942777"/>
                  <a:pt x="-6819" y="871960"/>
                  <a:pt x="1515" y="837614"/>
                </a:cubicBezTo>
                <a:cubicBezTo>
                  <a:pt x="87240" y="753250"/>
                  <a:pt x="126356" y="750124"/>
                  <a:pt x="287627" y="659542"/>
                </a:cubicBezTo>
                <a:cubicBezTo>
                  <a:pt x="448898" y="568960"/>
                  <a:pt x="766520" y="400629"/>
                  <a:pt x="969141" y="294119"/>
                </a:cubicBezTo>
                <a:cubicBezTo>
                  <a:pt x="1171762" y="187609"/>
                  <a:pt x="1384690" y="113272"/>
                  <a:pt x="1503356" y="20483"/>
                </a:cubicBezTo>
                <a:cubicBezTo>
                  <a:pt x="1660122" y="-26586"/>
                  <a:pt x="1662641" y="20241"/>
                  <a:pt x="1924975" y="34566"/>
                </a:cubicBezTo>
                <a:cubicBezTo>
                  <a:pt x="2181016" y="52180"/>
                  <a:pt x="2561551" y="100515"/>
                  <a:pt x="2773992" y="146439"/>
                </a:cubicBezTo>
                <a:lnTo>
                  <a:pt x="2865614" y="228989"/>
                </a:lnTo>
                <a:close/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C:\Documents and Settings\Admin\Мои документы\Завантаження\depositphotos_90992246-stock-illustration-vector-illustration-of-ukrainian-hut.jpg"/>
          <p:cNvPicPr/>
          <p:nvPr/>
        </p:nvPicPr>
        <p:blipFill>
          <a:blip r:embed="rId17"/>
          <a:srcRect l="0" t="16075" r="0" b="17067"/>
          <a:stretch/>
        </p:blipFill>
        <p:spPr>
          <a:xfrm>
            <a:off x="1952640" y="2727360"/>
            <a:ext cx="517680" cy="460440"/>
          </a:xfrm>
          <a:prstGeom prst="rect">
            <a:avLst/>
          </a:prstGeom>
          <a:ln w="0">
            <a:noFill/>
          </a:ln>
        </p:spPr>
      </p:pic>
      <p:grpSp>
        <p:nvGrpSpPr>
          <p:cNvPr id="234" name="Групувати 46"/>
          <p:cNvGrpSpPr/>
          <p:nvPr/>
        </p:nvGrpSpPr>
        <p:grpSpPr>
          <a:xfrm>
            <a:off x="2598840" y="2315880"/>
            <a:ext cx="1090440" cy="452520"/>
            <a:chOff x="2598840" y="2315880"/>
            <a:chExt cx="1090440" cy="452520"/>
          </a:xfrm>
        </p:grpSpPr>
        <p:sp>
          <p:nvSpPr>
            <p:cNvPr id="235" name="Пряма сполучна лінія 48"/>
            <p:cNvSpPr/>
            <p:nvPr/>
          </p:nvSpPr>
          <p:spPr>
            <a:xfrm flipH="1">
              <a:off x="2831040" y="2316240"/>
              <a:ext cx="858240" cy="0"/>
            </a:xfrm>
            <a:prstGeom prst="line">
              <a:avLst/>
            </a:prstGeom>
            <a:ln cap="rnd"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ряма сполучна лінія 49"/>
            <p:cNvSpPr/>
            <p:nvPr/>
          </p:nvSpPr>
          <p:spPr>
            <a:xfrm flipV="1">
              <a:off x="2598840" y="2315880"/>
              <a:ext cx="232200" cy="452520"/>
            </a:xfrm>
            <a:prstGeom prst="line">
              <a:avLst/>
            </a:prstGeom>
            <a:ln cap="rnd"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кутник 51"/>
          <p:cNvSpPr/>
          <p:nvPr/>
        </p:nvSpPr>
        <p:spPr>
          <a:xfrm>
            <a:off x="4856040" y="3316320"/>
            <a:ext cx="85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Відру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кутник 52"/>
          <p:cNvSpPr/>
          <p:nvPr/>
        </p:nvSpPr>
        <p:spPr>
          <a:xfrm>
            <a:off x="1143000" y="0"/>
            <a:ext cx="3051000" cy="1425600"/>
          </a:xfrm>
          <a:prstGeom prst="rect">
            <a:avLst/>
          </a:prstGeom>
          <a:solidFill>
            <a:srgbClr val="b4bcaa"/>
          </a:solidFill>
          <a:ln cap="rnd" w="9360">
            <a:solidFill>
              <a:srgbClr val="6d8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394329"/>
                </a:solidFill>
                <a:latin typeface="Century Gothic"/>
                <a:ea typeface="Arial"/>
              </a:rPr>
              <a:t>Хутір </a:t>
            </a:r>
            <a:r>
              <a:rPr b="0" lang="uk-UA" sz="1800" spc="-1" strike="noStrike">
                <a:solidFill>
                  <a:srgbClr val="394329"/>
                </a:solidFill>
                <a:latin typeface="Century Gothic"/>
                <a:ea typeface="Arial"/>
              </a:rPr>
              <a:t>– відокремлене сільське поселення із господарством і приналежною до нього земл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4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incognita.day.kiev.ua/img/hist/photo%20ftp/petro.jpg"/>
          <p:cNvPicPr/>
          <p:nvPr/>
        </p:nvPicPr>
        <p:blipFill>
          <a:blip r:embed="rId2"/>
          <a:stretch/>
        </p:blipFill>
        <p:spPr>
          <a:xfrm>
            <a:off x="5286240" y="1714680"/>
            <a:ext cx="3357720" cy="48798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5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632523"/>
                </a:solidFill>
                <a:latin typeface="Calibri"/>
              </a:rPr>
              <a:t>Реформа в Україн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6"/>
          <p:cNvSpPr/>
          <p:nvPr/>
        </p:nvSpPr>
        <p:spPr>
          <a:xfrm>
            <a:off x="0" y="157176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 Правобережжі близько 50% землі переходять в приватну власні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лежність селянам 65% всієї земл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ереселення з України близько 1 млн. чолові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но 2 4"/>
          <p:cNvSpPr/>
          <p:nvPr/>
        </p:nvSpPr>
        <p:spPr>
          <a:xfrm>
            <a:off x="4929120" y="-214200"/>
            <a:ext cx="6215040" cy="234576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зитивне став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4714920" y="6286680"/>
            <a:ext cx="4429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тро Столипін. Парадний 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32523"/>
                </a:solidFill>
                <a:latin typeface="Calibri"/>
              </a:rPr>
              <a:t>Трудова еміграція українц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932120" y="789120"/>
            <a:ext cx="5493240" cy="489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rmAutofit fontScale="9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Пік переселення – 1907 – 1909 р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2499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Основні території, звідки виїжджа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Calibri"/>
              </a:rPr>
              <a:t>Полтавщ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Calibri"/>
              </a:rPr>
              <a:t>Чернігівщ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14480" y="1357200"/>
            <a:ext cx="54291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Основні напрями еміграції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Calibri"/>
              </a:rPr>
              <a:t>Сибі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Calibri"/>
              </a:rPr>
              <a:t>Далекий Схі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Файл:Мапа зеленого клину.gif"/>
          <p:cNvPicPr/>
          <p:nvPr/>
        </p:nvPicPr>
        <p:blipFill>
          <a:blip r:embed="rId2"/>
          <a:stretch/>
        </p:blipFill>
        <p:spPr>
          <a:xfrm>
            <a:off x="2643120" y="2786040"/>
            <a:ext cx="6276960" cy="3562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7"/>
          <p:cNvSpPr/>
          <p:nvPr/>
        </p:nvSpPr>
        <p:spPr>
          <a:xfrm>
            <a:off x="2500200" y="6215040"/>
            <a:ext cx="6643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елений Клин – територія на Півдні Далекого Сходу, де українці становили більшість насе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32523"/>
                </a:solidFill>
                <a:latin typeface="Calibri"/>
              </a:rPr>
              <a:t>Соціальні суперечності в ході рефор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3840" y="114264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Calibri"/>
              </a:rPr>
              <a:t>Сут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785960"/>
            <a:ext cx="464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невдоволення великих землевласникі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збільшення кількості найбіднішого селян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загострення соціальної боротьби – посилення дій революціонерів – есер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Партия социал-революционеров. В борьбе обретешь ты право свое"/>
          <p:cNvPicPr/>
          <p:nvPr/>
        </p:nvPicPr>
        <p:blipFill>
          <a:blip r:embed="rId3"/>
          <a:stretch/>
        </p:blipFill>
        <p:spPr>
          <a:xfrm>
            <a:off x="4929120" y="1214280"/>
            <a:ext cx="3810240" cy="52200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7"/>
          <p:cNvSpPr/>
          <p:nvPr/>
        </p:nvSpPr>
        <p:spPr>
          <a:xfrm>
            <a:off x="4357800" y="6211800"/>
            <a:ext cx="4786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сери вважали Столипіна смертельним ворогом і планували його вби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14800" y="-36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Вбивство Столипі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57440" y="428400"/>
            <a:ext cx="4786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м.Київ, оперний теа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14800" y="1071360"/>
            <a:ext cx="59292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Особливі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основна версія вбивства – </a:t>
            </a: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атака есерів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від поранень Столипін поме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5 вересня 1911 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Портрет"/>
          <p:cNvPicPr/>
          <p:nvPr/>
        </p:nvPicPr>
        <p:blipFill>
          <a:blip r:embed="rId2"/>
          <a:stretch/>
        </p:blipFill>
        <p:spPr>
          <a:xfrm>
            <a:off x="285840" y="1643040"/>
            <a:ext cx="2922480" cy="45007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0" y="6000840"/>
            <a:ext cx="3500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митро Богров – вбивця Столипі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ятно 2 4"/>
          <p:cNvSpPr/>
          <p:nvPr/>
        </p:nvSpPr>
        <p:spPr>
          <a:xfrm>
            <a:off x="-1214280" y="0"/>
            <a:ext cx="5643360" cy="234540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1 вересня 1911 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http://upload.wikimedia.org/wikipedia/commons/thumb/d/d3/Stolypin_grave.jpg/200px-Stolypin_grave.jpg"/>
          <p:cNvPicPr/>
          <p:nvPr/>
        </p:nvPicPr>
        <p:blipFill>
          <a:blip r:embed="rId3"/>
          <a:stretch/>
        </p:blipFill>
        <p:spPr>
          <a:xfrm>
            <a:off x="4000680" y="3214800"/>
            <a:ext cx="2143080" cy="286056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0"/>
          <p:cNvSpPr/>
          <p:nvPr/>
        </p:nvSpPr>
        <p:spPr>
          <a:xfrm>
            <a:off x="3571920" y="6000840"/>
            <a:ext cx="300024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гила Столипіна (Києво-Печерська лавр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http://upload.wikimedia.org/wikipedia/commons/thumb/b/b8/Stolypin%27s_burial.jpg/200px-Stolypin%27s_burial.jpg"/>
          <p:cNvPicPr/>
          <p:nvPr/>
        </p:nvPicPr>
        <p:blipFill>
          <a:blip r:embed="rId4"/>
          <a:stretch/>
        </p:blipFill>
        <p:spPr>
          <a:xfrm>
            <a:off x="6286680" y="3214800"/>
            <a:ext cx="2720880" cy="20001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2"/>
          <p:cNvSpPr/>
          <p:nvPr/>
        </p:nvSpPr>
        <p:spPr>
          <a:xfrm>
            <a:off x="6500880" y="5072040"/>
            <a:ext cx="22860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инесення тіла П.Столипіна з лікарні бр. Маковсь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9" descr=""/>
          <p:cNvPicPr/>
          <p:nvPr/>
        </p:nvPicPr>
        <p:blipFill>
          <a:blip r:embed="rId2"/>
          <a:stretch/>
        </p:blipFill>
        <p:spPr>
          <a:xfrm>
            <a:off x="0" y="585720"/>
            <a:ext cx="9144000" cy="628488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1785960" y="0"/>
            <a:ext cx="5643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32523"/>
                </a:solidFill>
                <a:latin typeface="Calibri"/>
              </a:rPr>
              <a:t>Національний гні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histpol.pl.ua/img/pages/3069.jpg"/>
          <p:cNvPicPr/>
          <p:nvPr/>
        </p:nvPicPr>
        <p:blipFill>
          <a:blip r:embed="rId2"/>
          <a:stretch/>
        </p:blipFill>
        <p:spPr>
          <a:xfrm>
            <a:off x="171360" y="1865160"/>
            <a:ext cx="4681800" cy="4486320"/>
          </a:xfrm>
          <a:prstGeom prst="rect">
            <a:avLst/>
          </a:prstGeom>
          <a:ln w="0">
            <a:noFill/>
          </a:ln>
        </p:spPr>
      </p:pic>
      <p:sp>
        <p:nvSpPr>
          <p:cNvPr id="87" name="Табличка 7"/>
          <p:cNvSpPr/>
          <p:nvPr/>
        </p:nvSpPr>
        <p:spPr>
          <a:xfrm>
            <a:off x="3705480" y="928800"/>
            <a:ext cx="4845960" cy="760680"/>
          </a:xfrm>
          <a:custGeom>
            <a:avLst/>
            <a:gdLst>
              <a:gd name="textAreaLeft" fmla="*/ 89640 w 4845960"/>
              <a:gd name="textAreaRight" fmla="*/ 4756320 w 4845960"/>
              <a:gd name="textAreaTop" fmla="*/ 89640 h 760680"/>
              <a:gd name="textAreaBottom" fmla="*/ 671040 h 760680"/>
            </a:gdLst>
            <a:ahLst/>
            <a:rect l="textAreaLeft" t="textAreaTop" r="textAreaRight" b="textAreaBottom"/>
            <a:pathLst>
              <a:path w="1375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3949" y="21600"/>
                </a:lnTo>
                <a:arcTo wR="3600" hR="3600" stAng="10800000" swAng="5400000"/>
                <a:lnTo>
                  <a:pt x="137549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толипінський циркуля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105520" y="1714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Суть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- заборона реєстрації національних товариств і видавництв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(українські і єврейські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3500280" y="0"/>
            <a:ext cx="5643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32523"/>
                </a:solidFill>
                <a:latin typeface="Calibri"/>
              </a:rPr>
              <a:t>Національний гні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ятно 2 4"/>
          <p:cNvSpPr/>
          <p:nvPr/>
        </p:nvSpPr>
        <p:spPr>
          <a:xfrm>
            <a:off x="-857160" y="0"/>
            <a:ext cx="5000400" cy="3402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0 січня 1910 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0" y="5934240"/>
            <a:ext cx="50007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етро Столипін був активним захисником самодержавства, відзначався крайніми шовіністичними погля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Файл:1910s antisemitic flier Andrei Yushchinsky.jpg"/>
          <p:cNvPicPr/>
          <p:nvPr/>
        </p:nvPicPr>
        <p:blipFill>
          <a:blip r:embed="rId2"/>
          <a:stretch/>
        </p:blipFill>
        <p:spPr>
          <a:xfrm>
            <a:off x="1427040" y="858960"/>
            <a:ext cx="3284640" cy="2779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Су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звинувачення єврея Менделя Бейліса у ритуальному вбивстві російського хлопч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ровокування антиєврейських виступ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Наслідо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- судове виправдання Бейлі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3500280" y="0"/>
            <a:ext cx="5643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32523"/>
                </a:solidFill>
                <a:latin typeface="Calibri"/>
              </a:rPr>
              <a:t>Національний гні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ятно 2 4"/>
          <p:cNvSpPr/>
          <p:nvPr/>
        </p:nvSpPr>
        <p:spPr>
          <a:xfrm>
            <a:off x="-857160" y="0"/>
            <a:ext cx="4357440" cy="128844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1911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Табличка 7"/>
          <p:cNvSpPr/>
          <p:nvPr/>
        </p:nvSpPr>
        <p:spPr>
          <a:xfrm>
            <a:off x="4831200" y="714240"/>
            <a:ext cx="3049920" cy="760680"/>
          </a:xfrm>
          <a:custGeom>
            <a:avLst/>
            <a:gdLst>
              <a:gd name="textAreaLeft" fmla="*/ 89640 w 3049920"/>
              <a:gd name="textAreaRight" fmla="*/ 2960280 w 3049920"/>
              <a:gd name="textAreaTop" fmla="*/ 89640 h 760680"/>
              <a:gd name="textAreaBottom" fmla="*/ 671040 h 760680"/>
            </a:gdLst>
            <a:ahLst/>
            <a:rect l="textAreaLeft" t="textAreaTop" r="textAreaRight" b="textAreaBottom"/>
            <a:pathLst>
              <a:path w="8657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974" y="21600"/>
                </a:lnTo>
                <a:arcTo wR="3600" hR="3600" stAng="10800000" swAng="5400000"/>
                <a:lnTo>
                  <a:pt x="86574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рава Бейлі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1791720" y="3214800"/>
            <a:ext cx="2549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нтиєврейська листі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upload.wikimedia.org/wikipedia/commons/thumb/9/97/Beilis_famaly.jpg/250px-Beilis_famaly.jpg"/>
          <p:cNvPicPr/>
          <p:nvPr/>
        </p:nvPicPr>
        <p:blipFill>
          <a:blip r:embed="rId4"/>
          <a:stretch/>
        </p:blipFill>
        <p:spPr>
          <a:xfrm>
            <a:off x="214200" y="3714840"/>
            <a:ext cx="437688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1"/>
          <p:cNvSpPr/>
          <p:nvPr/>
        </p:nvSpPr>
        <p:spPr>
          <a:xfrm>
            <a:off x="657360" y="6286680"/>
            <a:ext cx="3388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Бейліс з сі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єю після звільн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32523"/>
                </a:solidFill>
                <a:latin typeface="Calibri"/>
              </a:rPr>
              <a:t>Українські парті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обливості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ереслідування влад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частина лідерів емігрували або були під наглядом полі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Основне досягненн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- збереження парт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2920" y="1357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Лідери парт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Табличка 4"/>
          <p:cNvSpPr/>
          <p:nvPr/>
        </p:nvSpPr>
        <p:spPr>
          <a:xfrm>
            <a:off x="0" y="785880"/>
            <a:ext cx="9144000" cy="600840"/>
          </a:xfrm>
          <a:custGeom>
            <a:avLst/>
            <a:gdLst>
              <a:gd name="textAreaLeft" fmla="*/ 70560 w 9144000"/>
              <a:gd name="textAreaRight" fmla="*/ 9073440 w 9144000"/>
              <a:gd name="textAreaTop" fmla="*/ 70560 h 600840"/>
              <a:gd name="textAreaBottom" fmla="*/ 530280 h 600840"/>
            </a:gdLst>
            <a:ahLst/>
            <a:rect l="textAreaLeft" t="textAreaTop" r="textAreaRight" b="textAreaBottom"/>
            <a:pathLst>
              <a:path w="32854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24940" y="21600"/>
                </a:lnTo>
                <a:arcTo wR="3600" hR="3600" stAng="10800000" swAng="5400000"/>
                <a:lnTo>
                  <a:pt x="328540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країнська соціал-демократична робітнича парт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Файл:Vinnichenko50634.jpg"/>
          <p:cNvPicPr/>
          <p:nvPr/>
        </p:nvPicPr>
        <p:blipFill>
          <a:blip r:embed="rId2"/>
          <a:stretch/>
        </p:blipFill>
        <p:spPr>
          <a:xfrm>
            <a:off x="4071960" y="2000160"/>
            <a:ext cx="2711520" cy="2357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4214880" y="4429080"/>
            <a:ext cx="2357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олодимир Винниченко у 10-ті рр. ХХ 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http://upload.wikimedia.org/wikipedia/uk/8/87/Petlura.jpg"/>
          <p:cNvPicPr/>
          <p:nvPr/>
        </p:nvPicPr>
        <p:blipFill>
          <a:blip r:embed="rId3"/>
          <a:stretch/>
        </p:blipFill>
        <p:spPr>
          <a:xfrm>
            <a:off x="6858000" y="2857680"/>
            <a:ext cx="2098800" cy="3286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8"/>
          <p:cNvSpPr/>
          <p:nvPr/>
        </p:nvSpPr>
        <p:spPr>
          <a:xfrm>
            <a:off x="7057440" y="6215040"/>
            <a:ext cx="1765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имон Петл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6" descr=""/>
          <p:cNvPicPr/>
          <p:nvPr/>
        </p:nvPicPr>
        <p:blipFill>
          <a:blip r:embed="rId2"/>
          <a:stretch/>
        </p:blipFill>
        <p:spPr>
          <a:xfrm>
            <a:off x="-12600" y="0"/>
            <a:ext cx="456084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Заголовок 1"/>
          <p:cNvSpPr/>
          <p:nvPr/>
        </p:nvSpPr>
        <p:spPr>
          <a:xfrm>
            <a:off x="428760" y="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32523"/>
                </a:solidFill>
                <a:latin typeface="Calibri"/>
              </a:rPr>
              <a:t>Українські парті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Табличка 4"/>
          <p:cNvSpPr/>
          <p:nvPr/>
        </p:nvSpPr>
        <p:spPr>
          <a:xfrm>
            <a:off x="2000160" y="714240"/>
            <a:ext cx="5214960" cy="600840"/>
          </a:xfrm>
          <a:custGeom>
            <a:avLst/>
            <a:gdLst>
              <a:gd name="textAreaLeft" fmla="*/ 70560 w 5214960"/>
              <a:gd name="textAreaRight" fmla="*/ 5144400 w 5214960"/>
              <a:gd name="textAreaTop" fmla="*/ 70560 h 600840"/>
              <a:gd name="textAreaBottom" fmla="*/ 530280 h 600840"/>
            </a:gdLst>
            <a:ahLst/>
            <a:rect l="textAreaLeft" t="textAreaTop" r="textAreaRight" b="textAreaBottom"/>
            <a:pathLst>
              <a:path w="18737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3777" y="21600"/>
                </a:lnTo>
                <a:arcTo wR="3600" hR="3600" stAng="10800000" swAng="5400000"/>
                <a:lnTo>
                  <a:pt x="187377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країнська народна парт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Mihnovsky.jpg"/>
          <p:cNvPicPr/>
          <p:nvPr/>
        </p:nvPicPr>
        <p:blipFill>
          <a:blip r:embed="rId4"/>
          <a:stretch/>
        </p:blipFill>
        <p:spPr>
          <a:xfrm>
            <a:off x="5143680" y="1428840"/>
            <a:ext cx="3286080" cy="49626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5078880" y="6357960"/>
            <a:ext cx="3556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Лідер партії Микола Міхновс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0" y="542916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912 р.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– видання М.Міхновським журналу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“Сніп”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(Харк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714480" y="928800"/>
            <a:ext cx="542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рошур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Шляхта в Україні: її участь в житті українського народу на тлі його історії»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Краків, 190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Су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овернення до українства полонізованої шлях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думка про те, що українська шляхта повинна очолити боротьбу за державну незалежні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632523"/>
                </a:solidFill>
                <a:latin typeface="Calibri"/>
              </a:rPr>
              <a:t>Український рух в 1907-1914 р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yacheslav Lipinskiy.jpg"/>
          <p:cNvPicPr/>
          <p:nvPr/>
        </p:nvPicPr>
        <p:blipFill>
          <a:blip r:embed="rId3"/>
          <a:stretch/>
        </p:blipFill>
        <p:spPr>
          <a:xfrm>
            <a:off x="142920" y="928800"/>
            <a:ext cx="3646440" cy="52862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6"/>
          <p:cNvSpPr/>
          <p:nvPr/>
        </p:nvSpPr>
        <p:spPr>
          <a:xfrm>
            <a:off x="500040" y="6143760"/>
            <a:ext cx="2857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В'ячеслав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Липинс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7" descr=""/>
          <p:cNvPicPr/>
          <p:nvPr/>
        </p:nvPicPr>
        <p:blipFill>
          <a:blip r:embed="rId2"/>
          <a:stretch/>
        </p:blipFill>
        <p:spPr>
          <a:xfrm>
            <a:off x="-12600" y="2633760"/>
            <a:ext cx="3402000" cy="437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428640" y="128592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Мета діяльності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еретворення Російської імперії на федеративну держав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надання Україні автономії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упровадження української мови в школ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створення українознавчих кафедр у Київському та Одеському (Новоросійському) університе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632523"/>
                </a:solidFill>
                <a:latin typeface="Calibri"/>
              </a:rPr>
              <a:t>Український рух в 1907-1914 р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Табличка 4"/>
          <p:cNvSpPr/>
          <p:nvPr/>
        </p:nvSpPr>
        <p:spPr>
          <a:xfrm>
            <a:off x="571680" y="714240"/>
            <a:ext cx="8072280" cy="600840"/>
          </a:xfrm>
          <a:custGeom>
            <a:avLst/>
            <a:gdLst>
              <a:gd name="textAreaLeft" fmla="*/ 70560 w 8072280"/>
              <a:gd name="textAreaRight" fmla="*/ 8001720 w 8072280"/>
              <a:gd name="textAreaTop" fmla="*/ 70560 h 600840"/>
              <a:gd name="textAreaBottom" fmla="*/ 530280 h 600840"/>
            </a:gdLst>
            <a:ahLst/>
            <a:rect l="textAreaLeft" t="textAreaTop" r="textAreaRight" b="textAreaBottom"/>
            <a:pathLst>
              <a:path w="2900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6435" y="21600"/>
                </a:lnTo>
                <a:arcTo wR="3600" hR="3600" stAng="10800000" swAng="5400000"/>
                <a:lnTo>
                  <a:pt x="290035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вариство українських поступовців (ТУ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 flipH="1">
            <a:off x="-720" y="1285920"/>
            <a:ext cx="2714760" cy="1478880"/>
          </a:xfrm>
          <a:prstGeom prst="irregularSeal1">
            <a:avLst/>
          </a:prstGeom>
          <a:solidFill>
            <a:srgbClr val="ffff00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Arial"/>
              </a:rPr>
              <a:t>1908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Шестиугольник 8"/>
          <p:cNvSpPr/>
          <p:nvPr/>
        </p:nvSpPr>
        <p:spPr>
          <a:xfrm>
            <a:off x="3500280" y="5929200"/>
            <a:ext cx="5500800" cy="78588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Друкований орган – журнал “Украинская жизнь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2"/>
          <a:stretch/>
        </p:blipFill>
        <p:spPr>
          <a:xfrm>
            <a:off x="-36360" y="743040"/>
            <a:ext cx="9289800" cy="1884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477600" y="2629800"/>
            <a:ext cx="2041200" cy="454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Лідери ТУ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Табличка 4"/>
          <p:cNvSpPr/>
          <p:nvPr/>
        </p:nvSpPr>
        <p:spPr>
          <a:xfrm>
            <a:off x="571680" y="142920"/>
            <a:ext cx="8072280" cy="600840"/>
          </a:xfrm>
          <a:custGeom>
            <a:avLst/>
            <a:gdLst>
              <a:gd name="textAreaLeft" fmla="*/ 70560 w 8072280"/>
              <a:gd name="textAreaRight" fmla="*/ 8001720 w 8072280"/>
              <a:gd name="textAreaTop" fmla="*/ 70560 h 600840"/>
              <a:gd name="textAreaBottom" fmla="*/ 530280 h 600840"/>
            </a:gdLst>
            <a:ahLst/>
            <a:rect l="textAreaLeft" t="textAreaTop" r="textAreaRight" b="textAreaBottom"/>
            <a:pathLst>
              <a:path w="2900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6435" y="21600"/>
                </a:lnTo>
                <a:arcTo wR="3600" hR="3600" stAng="10800000" swAng="5400000"/>
                <a:lnTo>
                  <a:pt x="290035" y="3600"/>
                </a:lnTo>
                <a:arcTo wR="3600" hR="3600" stAng="5400000" swAng="5400000"/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вариство українських поступовців (ТУ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Миха́йло Сергі́йович Груше́вський"/>
          <p:cNvPicPr/>
          <p:nvPr/>
        </p:nvPicPr>
        <p:blipFill>
          <a:blip r:embed="rId3"/>
          <a:stretch/>
        </p:blipFill>
        <p:spPr>
          <a:xfrm>
            <a:off x="357120" y="2786040"/>
            <a:ext cx="2381400" cy="34862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>
            <a:off x="714240" y="6211800"/>
            <a:ext cx="17146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ихайло Грушевс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Єфремов С.jpg"/>
          <p:cNvPicPr/>
          <p:nvPr/>
        </p:nvPicPr>
        <p:blipFill>
          <a:blip r:embed="rId4"/>
          <a:stretch/>
        </p:blipFill>
        <p:spPr>
          <a:xfrm>
            <a:off x="6072120" y="2643120"/>
            <a:ext cx="2745000" cy="3714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0"/>
          <p:cNvSpPr/>
          <p:nvPr/>
        </p:nvSpPr>
        <p:spPr>
          <a:xfrm>
            <a:off x="6643800" y="6211800"/>
            <a:ext cx="17143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ергій Єфре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Володимир Кирилович Винниченко"/>
          <p:cNvPicPr/>
          <p:nvPr/>
        </p:nvPicPr>
        <p:blipFill>
          <a:blip r:embed="rId5"/>
          <a:stretch/>
        </p:blipFill>
        <p:spPr>
          <a:xfrm>
            <a:off x="3286080" y="3214800"/>
            <a:ext cx="2381400" cy="3333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2"/>
          <p:cNvSpPr/>
          <p:nvPr/>
        </p:nvSpPr>
        <p:spPr>
          <a:xfrm>
            <a:off x="3643200" y="6211800"/>
            <a:ext cx="17146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олодимир Винни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17:48:39Z</dcterms:created>
  <dc:creator>Admin</dc:creator>
  <dc:description/>
  <dc:language>en-US</dc:language>
  <cp:lastModifiedBy>Сергей</cp:lastModifiedBy>
  <dcterms:modified xsi:type="dcterms:W3CDTF">2020-04-26T16:06:27Z</dcterms:modified>
  <cp:revision>13</cp:revision>
  <dc:subject/>
  <dc:title>Україна  в 1907–1914 рр.  Земельна реформа П.Столипіна </dc:title>
</cp:coreProperties>
</file>