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27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62A-2DAF-468E-AD41-2E5AC4D8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86F-1C5B-456C-9556-3E53D711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134-E14D-4FFC-8FFA-2E801F08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DFA-4B54-4472-949D-1238FCC0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846C-AAC1-4780-BFC8-A5DF8C30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1388-6290-4D4A-B73B-AB799BF4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0326-BA19-4393-B00F-C2A48695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2A67-9257-4775-990C-78E2D8ED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4644-90DC-4C3B-A759-5F19E017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26B1-27ED-41A2-8FBD-D425FD25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5667-DE35-4506-AFAB-A428CDB7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60E-F91C-4797-8532-99C87C5A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21A2-FF8B-472D-AD7F-B7238A5D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EA4F-47E8-46DB-8DCE-627A832D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586D-A439-4B36-A0D3-9732CE64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3198-5968-490D-959F-E0089921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331C-4599-48EF-9DCD-C3C1F7DD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D78-454E-4082-9E88-D34081C7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9C94-F520-4782-AC81-D5DB1CEA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4B5-3D5E-41CF-827F-EC071008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1EC-1A2D-4093-AFEE-948F2DF6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B96-4302-40D4-93C8-329A1A12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53C-D6C5-4A5F-9200-07D51059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C225-DB3D-4B9D-9AB9-C66DD029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0EB0-1E52-4E12-A5E4-98036C6B3EF5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C0A4-EEC7-4536-8C65-A0D333025995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:\Users\Family\Pictures\image367.jpg"/>
          <p:cNvPicPr/>
          <p:nvPr/>
        </p:nvPicPr>
        <p:blipFill>
          <a:blip r:embed="rId2"/>
          <a:stretch/>
        </p:blipFill>
        <p:spPr>
          <a:xfrm>
            <a:off x="179280" y="2708280"/>
            <a:ext cx="8820360" cy="4149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250920" y="620640"/>
            <a:ext cx="8717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Вода, що знаходиться в земній корі, (до глибини 12-16 км) називається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підземною водою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сновне джерело поповнення підземних вод - атмосферні опад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Вода просочується крізь гірські породи відразу після дощу, або при таненні снігу, або поступає поступово через річки і озе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755640" y="0"/>
            <a:ext cx="74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Bookman Old Style"/>
              </a:rPr>
              <a:t>Утворення підземних вод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2"/>
          <p:cNvSpPr/>
          <p:nvPr/>
        </p:nvSpPr>
        <p:spPr>
          <a:xfrm>
            <a:off x="179280" y="189000"/>
            <a:ext cx="8856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У місцях, де ґрунтові води залягають не занадто глибоко, люди викопують колодязі, щоб добути питну воду. Вода, що просочилася через пори гірських порід, набагато чистіше, ніж в річці або озері. У колодязях легко спостерігати зміну рівня ґрунтових вод.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5" descr="http://naiz1.pp.net.ua/_nw/5/60588129.jpg"/>
          <p:cNvPicPr/>
          <p:nvPr/>
        </p:nvPicPr>
        <p:blipFill>
          <a:blip r:embed="rId2"/>
          <a:stretch/>
        </p:blipFill>
        <p:spPr>
          <a:xfrm>
            <a:off x="324000" y="3068640"/>
            <a:ext cx="4917960" cy="368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vse1.com.ua/upload/iblock/95a/509.jpg"/>
          <p:cNvPicPr/>
          <p:nvPr/>
        </p:nvPicPr>
        <p:blipFill>
          <a:blip r:embed="rId3"/>
          <a:stretch/>
        </p:blipFill>
        <p:spPr>
          <a:xfrm>
            <a:off x="5435640" y="2492280"/>
            <a:ext cx="320040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http://school.xvatit.com/images/6/65/%D0%A0%D0%B8%D1%81.10.jpg"/>
          <p:cNvPicPr/>
          <p:nvPr/>
        </p:nvPicPr>
        <p:blipFill>
          <a:blip r:embed="rId2"/>
          <a:srcRect l="0" t="3078" r="1231" b="1575"/>
          <a:stretch/>
        </p:blipFill>
        <p:spPr>
          <a:xfrm>
            <a:off x="0" y="71280"/>
            <a:ext cx="9013680" cy="4465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"/>
          <p:cNvSpPr/>
          <p:nvPr/>
        </p:nvSpPr>
        <p:spPr>
          <a:xfrm>
            <a:off x="60480" y="4605480"/>
            <a:ext cx="901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Міжпластові води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– води, що лежать у водоносному шарі між 2 водотривкими шар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Артезіанські води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– напірні підземні води, замкнуті у ввігнутих водоносних пластах порід між водотривкими шар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2"/>
          <p:cNvSpPr/>
          <p:nvPr/>
        </p:nvSpPr>
        <p:spPr>
          <a:xfrm>
            <a:off x="5435640" y="404640"/>
            <a:ext cx="3459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Підземні води, що містять підвищену кількість розчинних речовин і газів, тобто </a:t>
            </a: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мінеральні води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uk-UA" sz="2400" spc="-1" strike="noStrike" u="sng">
                <a:solidFill>
                  <a:srgbClr val="4e2929"/>
                </a:solidFill>
                <a:uFillTx/>
                <a:latin typeface="Bookman Old Style"/>
              </a:rPr>
              <a:t>використовуються з лікувальною мето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6" descr="C:\Users\Family\Pictures\p_40519_3_gallerybig.jpg"/>
          <p:cNvPicPr/>
          <p:nvPr/>
        </p:nvPicPr>
        <p:blipFill>
          <a:blip r:embed="rId2"/>
          <a:stretch/>
        </p:blipFill>
        <p:spPr>
          <a:xfrm>
            <a:off x="108000" y="115920"/>
            <a:ext cx="5221080" cy="6491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Family\Pictures\naftusya.jpg"/>
          <p:cNvPicPr/>
          <p:nvPr/>
        </p:nvPicPr>
        <p:blipFill>
          <a:blip r:embed="rId3"/>
          <a:stretch/>
        </p:blipFill>
        <p:spPr>
          <a:xfrm>
            <a:off x="5508720" y="3716280"/>
            <a:ext cx="36352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Родни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680" y="-571680"/>
            <a:ext cx="822960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інеральні джерел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4365360"/>
            <a:ext cx="9036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uk-UA" sz="2400" spc="-1" strike="noStrike">
                <a:solidFill>
                  <a:srgbClr val="ffffff"/>
                </a:solidFill>
                <a:latin typeface="Century Gothic"/>
              </a:rPr>
              <a:t>Теплі і гарячі джерела зазвичай мають більш високу мінералізацію, оскільки хімічні реакції протікають більш інтенсивно при підвищених температурах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5"/>
          <p:cNvSpPr/>
          <p:nvPr/>
        </p:nvSpPr>
        <p:spPr>
          <a:xfrm>
            <a:off x="4932360" y="189000"/>
            <a:ext cx="4000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Підземні води поповнюються також за рахунок пари, що піднімається з глибинних шарів Землі; частина такої пари поступає на земну поверхню при виверженні вулканів.</a:t>
            </a: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Термальні води </a:t>
            </a: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–    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підземні води з температуро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понад  + 20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С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7" descr="http://i.lb.ua/040/48/c646a5a2875d.jpg"/>
          <p:cNvPicPr/>
          <p:nvPr/>
        </p:nvPicPr>
        <p:blipFill>
          <a:blip r:embed="rId2"/>
          <a:stretch/>
        </p:blipFill>
        <p:spPr>
          <a:xfrm>
            <a:off x="108000" y="115920"/>
            <a:ext cx="4438440" cy="333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Family\Pictures\59095847365.jpg"/>
          <p:cNvPicPr/>
          <p:nvPr/>
        </p:nvPicPr>
        <p:blipFill>
          <a:blip r:embed="rId3"/>
          <a:stretch/>
        </p:blipFill>
        <p:spPr>
          <a:xfrm>
            <a:off x="108000" y="3573360"/>
            <a:ext cx="44640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326880" y="4581360"/>
            <a:ext cx="849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У легкорозчинних породах (наприклад, солях, гіпсі, вапняках) вода вимиває порожнечі - печери. У великих печерах іноді утворюються підземні озера і річ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334800" y="333360"/>
            <a:ext cx="4038840" cy="4114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4643280" y="333360"/>
            <a:ext cx="40388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Users\Family\Pictures\1.jpg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Схема 2" descr=""/>
          <p:cNvPicPr/>
          <p:nvPr/>
        </p:nvPicPr>
        <p:blipFill>
          <a:blip r:embed="rId2"/>
          <a:stretch/>
        </p:blipFill>
        <p:spPr>
          <a:xfrm>
            <a:off x="317520" y="66600"/>
            <a:ext cx="8582040" cy="639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324000" y="4076640"/>
            <a:ext cx="850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Пори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-проміжки між частками гірської породи. Чим більші частки, тим ширші пори і тим легше через породу проходить вод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6" descr="2копирование"/>
          <p:cNvPicPr/>
          <p:nvPr/>
        </p:nvPicPr>
        <p:blipFill>
          <a:blip r:embed="rId2"/>
          <a:srcRect l="7172" t="2986" r="18647" b="29241"/>
          <a:stretch/>
        </p:blipFill>
        <p:spPr>
          <a:xfrm>
            <a:off x="3276720" y="189000"/>
            <a:ext cx="289692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1495800" y="189000"/>
            <a:ext cx="640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Bookman Old Style"/>
              </a:rPr>
              <a:t>Водопроникність порід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311040" y="1373040"/>
            <a:ext cx="16164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Галь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100 м на добу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2097000" y="1373040"/>
            <a:ext cx="15004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Піс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10 м на добу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3869640" y="1373040"/>
            <a:ext cx="15552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Гли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1 мм на добу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5622120" y="1436760"/>
            <a:ext cx="1636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Граніт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Піскови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7310160" y="1436760"/>
            <a:ext cx="1654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Вапняк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гіпс, сіл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розчинні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Стрелка вниз 2"/>
          <p:cNvSpPr/>
          <p:nvPr/>
        </p:nvSpPr>
        <p:spPr>
          <a:xfrm>
            <a:off x="1042920" y="981000"/>
            <a:ext cx="249480" cy="360360"/>
          </a:xfrm>
          <a:prstGeom prst="down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dbc4b4"/>
              </a:gs>
              <a:gs pos="100000">
                <a:srgbClr val="f5efeb"/>
              </a:gs>
            </a:gsLst>
            <a:lin ang="16200000"/>
          </a:gradFill>
          <a:ln w="9360">
            <a:solidFill>
              <a:srgbClr val="82644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Стрелка вниз 10"/>
          <p:cNvSpPr/>
          <p:nvPr/>
        </p:nvSpPr>
        <p:spPr>
          <a:xfrm>
            <a:off x="2722680" y="981000"/>
            <a:ext cx="249120" cy="360360"/>
          </a:xfrm>
          <a:prstGeom prst="downArrow">
            <a:avLst>
              <a:gd name="adj1" fmla="val 50000"/>
              <a:gd name="adj2" fmla="val 50026"/>
            </a:avLst>
          </a:prstGeom>
          <a:gradFill rotWithShape="0">
            <a:gsLst>
              <a:gs pos="0">
                <a:srgbClr val="dbc4b4"/>
              </a:gs>
              <a:gs pos="100000">
                <a:srgbClr val="f5efeb"/>
              </a:gs>
            </a:gsLst>
            <a:lin ang="16200000"/>
          </a:gradFill>
          <a:ln w="9360">
            <a:solidFill>
              <a:srgbClr val="82644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Стрелка вниз 11"/>
          <p:cNvSpPr/>
          <p:nvPr/>
        </p:nvSpPr>
        <p:spPr>
          <a:xfrm>
            <a:off x="4522680" y="981000"/>
            <a:ext cx="249480" cy="360360"/>
          </a:xfrm>
          <a:prstGeom prst="down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dbc4b4"/>
              </a:gs>
              <a:gs pos="100000">
                <a:srgbClr val="f5efeb"/>
              </a:gs>
            </a:gsLst>
            <a:lin ang="16200000"/>
          </a:gradFill>
          <a:ln w="9360">
            <a:solidFill>
              <a:srgbClr val="82644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Стрелка вниз 12"/>
          <p:cNvSpPr/>
          <p:nvPr/>
        </p:nvSpPr>
        <p:spPr>
          <a:xfrm>
            <a:off x="6315120" y="981000"/>
            <a:ext cx="249120" cy="360360"/>
          </a:xfrm>
          <a:prstGeom prst="downArrow">
            <a:avLst>
              <a:gd name="adj1" fmla="val 50000"/>
              <a:gd name="adj2" fmla="val 50026"/>
            </a:avLst>
          </a:prstGeom>
          <a:gradFill rotWithShape="0">
            <a:gsLst>
              <a:gs pos="0">
                <a:srgbClr val="dbc4b4"/>
              </a:gs>
              <a:gs pos="100000">
                <a:srgbClr val="f5efeb"/>
              </a:gs>
            </a:gsLst>
            <a:lin ang="16200000"/>
          </a:gradFill>
          <a:ln w="9360">
            <a:solidFill>
              <a:srgbClr val="82644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Стрелка вниз 13"/>
          <p:cNvSpPr/>
          <p:nvPr/>
        </p:nvSpPr>
        <p:spPr>
          <a:xfrm>
            <a:off x="7850160" y="981000"/>
            <a:ext cx="249120" cy="360360"/>
          </a:xfrm>
          <a:prstGeom prst="downArrow">
            <a:avLst>
              <a:gd name="adj1" fmla="val 50000"/>
              <a:gd name="adj2" fmla="val 50026"/>
            </a:avLst>
          </a:prstGeom>
          <a:gradFill rotWithShape="0">
            <a:gsLst>
              <a:gs pos="0">
                <a:srgbClr val="dbc4b4"/>
              </a:gs>
              <a:gs pos="100000">
                <a:srgbClr val="f5efeb"/>
              </a:gs>
            </a:gsLst>
            <a:lin ang="16200000"/>
          </a:gradFill>
          <a:ln w="9360">
            <a:solidFill>
              <a:srgbClr val="82644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179280" y="4508640"/>
            <a:ext cx="529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Гірські породи, які пропускають воду, називаються </a:t>
            </a: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водопроникними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які не пропускають її - </a:t>
            </a: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водотривкими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2" descr="http://www.arowana-im.com.ua/images/galka_jeltaya.jpg"/>
          <p:cNvPicPr/>
          <p:nvPr/>
        </p:nvPicPr>
        <p:blipFill>
          <a:blip r:embed="rId2"/>
          <a:srcRect l="4394" t="5732" r="3203" b="5127"/>
          <a:stretch/>
        </p:blipFill>
        <p:spPr>
          <a:xfrm>
            <a:off x="201600" y="2774880"/>
            <a:ext cx="1746360" cy="1590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voprosiki.com/wp-content/uploads/2010/06/23421960_Pesok.jpg"/>
          <p:cNvPicPr/>
          <p:nvPr/>
        </p:nvPicPr>
        <p:blipFill>
          <a:blip r:embed="rId3"/>
          <a:stretch/>
        </p:blipFill>
        <p:spPr>
          <a:xfrm>
            <a:off x="2050920" y="2781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darudar.org/var/files/img/38/75/3875db39a6834368b6f39d407348a9e2_600.jpg"/>
          <p:cNvPicPr/>
          <p:nvPr/>
        </p:nvPicPr>
        <p:blipFill>
          <a:blip r:embed="rId4"/>
          <a:srcRect l="0" t="0" r="12390" b="0"/>
          <a:stretch/>
        </p:blipFill>
        <p:spPr>
          <a:xfrm>
            <a:off x="3714840" y="2774880"/>
            <a:ext cx="1766880" cy="159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http://alyns-sb.sumy.ua/granserm.jpg"/>
          <p:cNvPicPr/>
          <p:nvPr/>
        </p:nvPicPr>
        <p:blipFill>
          <a:blip r:embed="rId5"/>
          <a:srcRect l="0" t="0" r="31892" b="0"/>
          <a:stretch/>
        </p:blipFill>
        <p:spPr>
          <a:xfrm>
            <a:off x="5570640" y="2781360"/>
            <a:ext cx="1670040" cy="158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http://ru.all-biz.info/img/ru/catalog/small/179282.jpeg"/>
          <p:cNvPicPr/>
          <p:nvPr/>
        </p:nvPicPr>
        <p:blipFill>
          <a:blip r:embed="rId6"/>
          <a:stretch/>
        </p:blipFill>
        <p:spPr>
          <a:xfrm>
            <a:off x="7308720" y="2781360"/>
            <a:ext cx="1597320" cy="15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http://www.vost.ru/files/u4/mel.jpg"/>
          <p:cNvPicPr/>
          <p:nvPr/>
        </p:nvPicPr>
        <p:blipFill>
          <a:blip r:embed="rId7"/>
          <a:srcRect l="4940" t="0" r="0" b="0"/>
          <a:stretch/>
        </p:blipFill>
        <p:spPr>
          <a:xfrm>
            <a:off x="7308720" y="4402080"/>
            <a:ext cx="1616040" cy="1451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http://ukrstone.com/img/2010-11-24_115054.jpg"/>
          <p:cNvPicPr/>
          <p:nvPr/>
        </p:nvPicPr>
        <p:blipFill>
          <a:blip r:embed="rId8"/>
          <a:stretch/>
        </p:blipFill>
        <p:spPr>
          <a:xfrm>
            <a:off x="5572080" y="4402080"/>
            <a:ext cx="166860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142920" y="-27000"/>
            <a:ext cx="885816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Bookman Old Style"/>
              </a:rPr>
              <a:t>Уявимо собі, що якась місцевість  складена крупнозернистим піском, який лежить на шарі щільної водотривкої глини. Коли в цій місцевості випадають щедрі опади, вода швидко просочується через пісок, але затримується над шаром глини, поступово заповнюючи пори в піску. Утворюється шар, насичений водою, - </a:t>
            </a:r>
            <a:r>
              <a:rPr b="1" lang="uk-UA" sz="2200" spc="-1" strike="noStrike">
                <a:solidFill>
                  <a:srgbClr val="000000"/>
                </a:solidFill>
                <a:latin typeface="Bookman Old Style"/>
              </a:rPr>
              <a:t>водоносний шар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5"/>
          <p:cNvPicPr/>
          <p:nvPr/>
        </p:nvPicPr>
        <p:blipFill>
          <a:blip r:embed="rId2"/>
          <a:stretch/>
        </p:blipFill>
        <p:spPr>
          <a:xfrm>
            <a:off x="468360" y="2708280"/>
            <a:ext cx="828036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179280" y="481176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Ґрунтові води повільно переміщуються, по порах водоносного шару у бік ухилу водотривкого шару. На схилах, в ярах, річкових долинах вони виходять на поверхню, утворюючи джере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5" descr="1"/>
          <p:cNvPicPr/>
          <p:nvPr/>
        </p:nvPicPr>
        <p:blipFill>
          <a:blip r:embed="rId2"/>
          <a:srcRect l="0" t="0" r="2044" b="0"/>
          <a:stretch/>
        </p:blipFill>
        <p:spPr>
          <a:xfrm>
            <a:off x="324000" y="189000"/>
            <a:ext cx="8570880" cy="45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C:\Users\Family\Pictures\spring.jpg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Palatino Linotype"/>
                <a:ea typeface="Aharoni"/>
              </a:rPr>
              <a:t>Джерело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2560" y="486900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entury Gothic"/>
                <a:ea typeface="Aharoni"/>
              </a:rPr>
              <a:t> 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334800" y="5157720"/>
            <a:ext cx="85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Схема 1" descr=""/>
          <p:cNvPicPr/>
          <p:nvPr/>
        </p:nvPicPr>
        <p:blipFill>
          <a:blip r:embed="rId2"/>
          <a:stretch/>
        </p:blipFill>
        <p:spPr>
          <a:xfrm>
            <a:off x="-73080" y="12600"/>
            <a:ext cx="5426280" cy="6259680"/>
          </a:xfrm>
          <a:prstGeom prst="rect">
            <a:avLst/>
          </a:prstGeom>
          <a:ln w="0">
            <a:noFill/>
          </a:ln>
        </p:spPr>
      </p:pic>
      <p:pic>
        <p:nvPicPr>
          <p:cNvPr id="122" name="Схема 2" descr=""/>
          <p:cNvPicPr/>
          <p:nvPr/>
        </p:nvPicPr>
        <p:blipFill>
          <a:blip r:embed="rId3"/>
          <a:stretch/>
        </p:blipFill>
        <p:spPr>
          <a:xfrm>
            <a:off x="5419800" y="615960"/>
            <a:ext cx="359568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http://school.xvatit.com/images/6/65/%D0%A0%D0%B8%D1%81.10.jpg"/>
          <p:cNvPicPr/>
          <p:nvPr/>
        </p:nvPicPr>
        <p:blipFill>
          <a:blip r:embed="rId2"/>
          <a:srcRect l="0" t="3078" r="1231" b="1575"/>
          <a:stretch/>
        </p:blipFill>
        <p:spPr>
          <a:xfrm>
            <a:off x="60480" y="260280"/>
            <a:ext cx="9013680" cy="482436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"/>
          <p:cNvSpPr/>
          <p:nvPr/>
        </p:nvSpPr>
        <p:spPr>
          <a:xfrm>
            <a:off x="334800" y="5334120"/>
            <a:ext cx="85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Верховодка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– сезонна вода, що залягає на першому від поверхні шарі водотривких порід.(Залежить від кількості опаді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http://school.xvatit.com/images/6/65/%D0%A0%D0%B8%D1%81.10.jpg"/>
          <p:cNvPicPr/>
          <p:nvPr/>
        </p:nvPicPr>
        <p:blipFill>
          <a:blip r:embed="rId2"/>
          <a:srcRect l="0" t="3078" r="1231" b="1575"/>
          <a:stretch/>
        </p:blipFill>
        <p:spPr>
          <a:xfrm>
            <a:off x="60480" y="260280"/>
            <a:ext cx="9013680" cy="4753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1"/>
          <p:cNvSpPr/>
          <p:nvPr/>
        </p:nvSpPr>
        <p:spPr>
          <a:xfrm>
            <a:off x="316080" y="5229360"/>
            <a:ext cx="85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Ґрунтові води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– води, що лежать суцільним шаром біля поверхні і можуть рухатися по водотривкому шарі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7:51:35Z</dcterms:created>
  <dc:creator>Елена</dc:creator>
  <dc:description/>
  <dc:language>en-US</dc:language>
  <cp:lastModifiedBy>Сергей</cp:lastModifiedBy>
  <dcterms:modified xsi:type="dcterms:W3CDTF">2020-04-25T11:51:58Z</dcterms:modified>
  <cp:revision>85</cp:revision>
  <dc:subject/>
  <dc:title>Слайд 1</dc:title>
</cp:coreProperties>
</file>