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FBE-586A-4163-8CEA-B8555546A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8FD-5DCF-4C6D-B661-244EACA2B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DE2-60DA-4F88-9B92-7A270C77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351-C603-4CA3-A880-E5384D0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D3C-87D4-4C7C-B4A2-96E4208A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447-CC44-4E50-B69B-141B97DC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971-4BBB-4A09-AAF1-6B69E16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B2D-2B9A-4ED4-B2F8-9C1AC0F8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1D0-1C99-4EC6-B3C9-A764C9D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20E-BDA6-45D5-BC6D-D93BEACF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D61-55B8-4CB2-B6C3-7C59402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540-2119-44CF-871D-AD764D9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AD1-53B2-4EE0-BA64-0EE7297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265-D807-4876-848C-0B8B31B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295-5DE2-4E8C-ADDE-85C1184CD5E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87280" y="743040"/>
            <a:ext cx="864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Політизація українського руху в Наддніпрянській Україні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Calibri"/>
              </a:rPr>
              <a:t>Політичні партії Наддніпрянщини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960" cy="4095000"/>
          </a:xfrm>
          <a:prstGeom prst="rect">
            <a:avLst/>
          </a:prstGeom>
          <a:solidFill>
            <a:srgbClr val="eeece1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періодом виникнення є початок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Х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столітт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першою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політичною партією Наддніпрянщини стає Революційна Українська парті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більшість партій відстоювали позиції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автономізму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і поширення соціалістичних і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Революційна українська партія (РУ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ятно 2 3"/>
          <p:cNvSpPr/>
          <p:nvPr/>
        </p:nvSpPr>
        <p:spPr>
          <a:xfrm>
            <a:off x="-181080" y="476280"/>
            <a:ext cx="3961080" cy="21607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0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Табличка 4"/>
          <p:cNvSpPr/>
          <p:nvPr/>
        </p:nvSpPr>
        <p:spPr>
          <a:xfrm>
            <a:off x="6156360" y="765000"/>
            <a:ext cx="2736720" cy="719280"/>
          </a:xfrm>
          <a:custGeom>
            <a:avLst/>
            <a:gdLst>
              <a:gd name="textAreaLeft" fmla="*/ 84600 w 2736720"/>
              <a:gd name="textAreaRight" fmla="*/ 2652120 w 2736720"/>
              <a:gd name="textAreaTop" fmla="*/ 84600 h 719280"/>
              <a:gd name="textAreaBottom" fmla="*/ 634680 h 719280"/>
            </a:gdLst>
            <a:ahLst/>
            <a:rect l="textAreaLeft" t="textAreaTop" r="textAreaRight" b="textAreaBottom"/>
            <a:pathLst>
              <a:path w="821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553" y="21600"/>
                </a:lnTo>
                <a:arcTo wR="3600" hR="3600" stAng="10800000" swAng="5400000"/>
                <a:lnTo>
                  <a:pt x="82153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Хар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492360" y="162864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Гасло:</a:t>
            </a:r>
            <a:r>
              <a:rPr b="1" lang="en-US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«Рух усе, мета ніщо» </a:t>
            </a:r>
            <a:r>
              <a:rPr b="1" lang="en-US" sz="2400" spc="-1" strike="noStrike">
                <a:solidFill>
                  <a:srgbClr val="003300"/>
                </a:solidFill>
                <a:latin typeface="Calibri"/>
              </a:rPr>
              <a:t>(Є.Бер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54800" y="2852640"/>
            <a:ext cx="42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студентська гром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&amp;Icy;&amp;zcy;&amp;ocy;&amp;bcy;&amp;rcy;&amp;acy;&amp;zhcy;&amp;iecy;&amp;ncy;&amp;icy;&amp;iecy; &amp;scy;&amp;acy;&amp;mcy;&amp;ocy;&amp;gcy;&amp;ocy; &amp;pcy;&amp;iecy;&amp;rcy;&amp;vcy;&amp;ocy;&amp;gcy;&amp;ocy; &amp;icy;&amp;zcy;&amp;dcy;&amp;acy;&amp;ncy;&amp;icy;&amp;yacy; &amp;bcy;&amp;rcy;&amp;ocy;&amp;shcy;&amp;yucy;&amp;rcy;&amp;ycy;"/>
          <p:cNvPicPr/>
          <p:nvPr/>
        </p:nvPicPr>
        <p:blipFill>
          <a:blip r:embed="rId2"/>
          <a:stretch/>
        </p:blipFill>
        <p:spPr>
          <a:xfrm>
            <a:off x="6645240" y="2786040"/>
            <a:ext cx="2376360" cy="3602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3643200" y="5362560"/>
            <a:ext cx="29559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стійна Україна” М.Міхновського – перша програма Р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4967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Перший програмний документ – брошура М.Міхновського “Самостійна Україн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84000" y="1664280"/>
            <a:ext cx="3672000" cy="4392360"/>
          </a:xfrm>
          <a:prstGeom prst="rect">
            <a:avLst/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боротьба за державну незалежні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боротьба проти царизм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радикаліз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безкомпромісність і  рішучі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прагнення по</a:t>
            </a: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ліпшити долю народу політичними засоб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1619280" y="0"/>
            <a:ext cx="75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Революційна українська партія (РУ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Українська народна партія (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НП</a:t>
            </a: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ятно 2 3"/>
          <p:cNvSpPr/>
          <p:nvPr/>
        </p:nvSpPr>
        <p:spPr>
          <a:xfrm>
            <a:off x="-181080" y="476280"/>
            <a:ext cx="3961080" cy="21607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2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Табличка 4"/>
          <p:cNvSpPr/>
          <p:nvPr/>
        </p:nvSpPr>
        <p:spPr>
          <a:xfrm>
            <a:off x="6156360" y="765000"/>
            <a:ext cx="2736720" cy="719280"/>
          </a:xfrm>
          <a:custGeom>
            <a:avLst/>
            <a:gdLst>
              <a:gd name="textAreaLeft" fmla="*/ 84600 w 2736720"/>
              <a:gd name="textAreaRight" fmla="*/ 2652120 w 2736720"/>
              <a:gd name="textAreaTop" fmla="*/ 84600 h 719280"/>
              <a:gd name="textAreaBottom" fmla="*/ 634680 h 719280"/>
            </a:gdLst>
            <a:ahLst/>
            <a:rect l="textAreaLeft" t="textAreaTop" r="textAreaRight" b="textAreaBottom"/>
            <a:pathLst>
              <a:path w="821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553" y="21600"/>
                </a:lnTo>
                <a:arcTo wR="3600" hR="3600" stAng="10800000" swAng="5400000"/>
                <a:lnTo>
                  <a:pt x="82153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Хар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3492360" y="1628640"/>
            <a:ext cx="5327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Гасло:</a:t>
            </a:r>
            <a:r>
              <a:rPr b="1" lang="en-US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«Україна для українці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0" y="2781360"/>
            <a:ext cx="3348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активісти на чолі з М.Міхновським, які вийшли з РУ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1619280" y="0"/>
            <a:ext cx="7524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Українська народна партія (Р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0" y="1197000"/>
            <a:ext cx="4967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Програмний документ – праця М.Міхновського “Десять заповідей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1903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2"/>
          <p:cNvSpPr/>
          <p:nvPr/>
        </p:nvSpPr>
        <p:spPr>
          <a:xfrm>
            <a:off x="4248000" y="620640"/>
            <a:ext cx="5220000" cy="597708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00"/>
                </a:solidFill>
                <a:latin typeface="Calibri"/>
              </a:rPr>
              <a:t>утворення самостійної демократичної держави – України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00"/>
                </a:solidFill>
                <a:latin typeface="Calibri"/>
              </a:rPr>
              <a:t>президентська республіка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00"/>
                </a:solidFill>
                <a:latin typeface="Calibri"/>
              </a:rPr>
              <a:t>соціальні гарантії для широких верств населення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00"/>
                </a:solidFill>
                <a:latin typeface="Calibri"/>
              </a:rPr>
              <a:t>передача землі у власність селяна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549360"/>
            <a:ext cx="558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Форми діяльност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1903 р. – створення М.Міхновським напіввоєнної організації  “Оборона України” для здійснення політичних терористичних акт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М.Міхновський виклав теоретичні основи українського націоналізму (“батько українського націоналізму”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1619280" y="0"/>
            <a:ext cx="7524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Українська народна партія (Р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ертикальный свиток 4"/>
          <p:cNvSpPr/>
          <p:nvPr/>
        </p:nvSpPr>
        <p:spPr>
          <a:xfrm>
            <a:off x="4643280" y="622440"/>
            <a:ext cx="4969080" cy="6253920"/>
          </a:xfrm>
          <a:prstGeom prst="verticalScroll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ах на пам’ятник О. Пушкіну в Харкові УНП присвятила річниці Переяславської угоди 1654 р. Під пам’ятник, що стояв в університетському сквері, було закладено вибухівку та партійні листівки, які після вибуху мали розлетітися на всі боки. Текст листівок пояснював мету акції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ушкін ображав гідність України у своїх творах, особливо в поемі «Полтава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ім цього, пам’ятник російському поету на українській землі проголошувався зайвим, доки не буде дозволено безперешкодно встановлювати тут пам’ятники українським письмен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1619280" y="189000"/>
            <a:ext cx="7524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choolBookC-Italic"/>
              </a:rPr>
              <a:t>Українська соціал-демократична спілка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УСД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ятно 2 4"/>
          <p:cNvSpPr/>
          <p:nvPr/>
        </p:nvSpPr>
        <p:spPr>
          <a:xfrm rot="351600">
            <a:off x="-152280" y="385560"/>
            <a:ext cx="3960720" cy="21603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4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Табличка 5"/>
          <p:cNvSpPr/>
          <p:nvPr/>
        </p:nvSpPr>
        <p:spPr>
          <a:xfrm>
            <a:off x="6227640" y="1052640"/>
            <a:ext cx="2737080" cy="720720"/>
          </a:xfrm>
          <a:custGeom>
            <a:avLst/>
            <a:gdLst>
              <a:gd name="textAreaLeft" fmla="*/ 84960 w 2737080"/>
              <a:gd name="textAreaRight" fmla="*/ 2652120 w 2737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82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00" y="21600"/>
                </a:lnTo>
                <a:arcTo wR="3600" hR="3600" stAng="10800000" swAng="5400000"/>
                <a:lnTo>
                  <a:pt x="82000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Льв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0" y="2492280"/>
            <a:ext cx="3924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- противники самостій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країни, які вийшли зі складу Р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Табличка 7"/>
          <p:cNvSpPr/>
          <p:nvPr/>
        </p:nvSpPr>
        <p:spPr>
          <a:xfrm>
            <a:off x="179280" y="6093000"/>
            <a:ext cx="8785440" cy="521280"/>
          </a:xfrm>
          <a:custGeom>
            <a:avLst/>
            <a:gdLst>
              <a:gd name="textAreaLeft" fmla="*/ 61200 w 8785440"/>
              <a:gd name="textAreaRight" fmla="*/ 8724240 w 8785440"/>
              <a:gd name="textAreaTop" fmla="*/ 61200 h 521280"/>
              <a:gd name="textAreaBottom" fmla="*/ 460080 h 521280"/>
            </a:gdLst>
            <a:ahLst/>
            <a:rect l="textAreaLeft" t="textAreaTop" r="textAreaRight" b="textAreaBottom"/>
            <a:pathLst>
              <a:path w="3638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0201" y="21600"/>
                </a:lnTo>
                <a:arcTo wR="3600" hR="3600" stAng="10800000" swAng="5400000"/>
                <a:lnTo>
                  <a:pt x="363801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На засадах авто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омної секції увійшла до складу РСДРП (меншовик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3348000" y="1989000"/>
            <a:ext cx="5796000" cy="396108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Зі статуту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«Спіл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займається організацією пролетаріату, що говорить українською мово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у місцевостях, де немає комітетів РСДРП, її громади являються само</a:t>
            </a:r>
            <a:r>
              <a:rPr b="1" lang="uk-UA" sz="2600" spc="-1" strike="noStrike">
                <a:solidFill>
                  <a:srgbClr val="003300"/>
                </a:solidFill>
                <a:latin typeface="Calibri"/>
              </a:rPr>
              <a:t>стійними організаціям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92000" y="1484280"/>
            <a:ext cx="5410440" cy="533520"/>
          </a:xfrm>
          <a:prstGeom prst="rect">
            <a:avLst/>
          </a:prstGeom>
          <a:solidFill>
            <a:srgbClr val="eeece1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іберальний напрям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619280" y="0"/>
            <a:ext cx="75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Українська демократична партія (УДП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ятно 2 4"/>
          <p:cNvSpPr/>
          <p:nvPr/>
        </p:nvSpPr>
        <p:spPr>
          <a:xfrm rot="351600">
            <a:off x="-152280" y="385560"/>
            <a:ext cx="3960720" cy="21603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4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Табличка 5"/>
          <p:cNvSpPr/>
          <p:nvPr/>
        </p:nvSpPr>
        <p:spPr>
          <a:xfrm>
            <a:off x="6227640" y="620640"/>
            <a:ext cx="2737080" cy="720720"/>
          </a:xfrm>
          <a:custGeom>
            <a:avLst/>
            <a:gdLst>
              <a:gd name="textAreaLeft" fmla="*/ 84960 w 2737080"/>
              <a:gd name="textAreaRight" fmla="*/ 2652120 w 2737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82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00" y="21600"/>
                </a:lnTo>
                <a:arcTo wR="3600" hR="3600" stAng="10800000" swAng="5400000"/>
                <a:lnTo>
                  <a:pt x="82000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0" y="2492280"/>
            <a:ext cx="320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поміркована українська інтеліген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2268360" y="2349360"/>
            <a:ext cx="7199640" cy="424836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автономія</a:t>
            </a: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 України в складі федеративної Російської держав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Росія – конституційна монархі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загальнонародна власніс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1619280" y="0"/>
            <a:ext cx="75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Українська радикальна партія (УР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ятно 2 4"/>
          <p:cNvSpPr/>
          <p:nvPr/>
        </p:nvSpPr>
        <p:spPr>
          <a:xfrm rot="351600">
            <a:off x="-152280" y="385560"/>
            <a:ext cx="3960720" cy="21603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4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0" y="2492280"/>
            <a:ext cx="320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поміркована українська інтеліген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Табличка 6"/>
          <p:cNvSpPr/>
          <p:nvPr/>
        </p:nvSpPr>
        <p:spPr>
          <a:xfrm>
            <a:off x="6227640" y="620640"/>
            <a:ext cx="2737080" cy="720720"/>
          </a:xfrm>
          <a:custGeom>
            <a:avLst/>
            <a:gdLst>
              <a:gd name="textAreaLeft" fmla="*/ 84960 w 2737080"/>
              <a:gd name="textAreaRight" fmla="*/ 2652120 w 2737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82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00" y="21600"/>
                </a:lnTo>
                <a:arcTo wR="3600" hR="3600" stAng="10800000" swAng="5400000"/>
                <a:lnTo>
                  <a:pt x="82000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3492360" y="1484280"/>
            <a:ext cx="5410440" cy="533520"/>
          </a:xfrm>
          <a:prstGeom prst="rect">
            <a:avLst/>
          </a:prstGeom>
          <a:solidFill>
            <a:srgbClr val="eeece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іберальний напря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268360" y="2349360"/>
            <a:ext cx="7199640" cy="424836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автономія</a:t>
            </a:r>
            <a:r>
              <a:rPr b="1" lang="en-US" sz="3400" spc="-1" strike="noStrike">
                <a:solidFill>
                  <a:srgbClr val="003300"/>
                </a:solidFill>
                <a:latin typeface="Calibri"/>
              </a:rPr>
              <a:t> України в складі федеративної Російської держав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Calibri"/>
              </a:rPr>
              <a:t>Росія – конституційна монархі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1619280" y="0"/>
            <a:ext cx="752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країнська соціал-демократична робітнича партія (УСДР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ятно 2 4"/>
          <p:cNvSpPr/>
          <p:nvPr/>
        </p:nvSpPr>
        <p:spPr>
          <a:xfrm rot="351600">
            <a:off x="-297000" y="673200"/>
            <a:ext cx="3961080" cy="21603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5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0" y="2708280"/>
            <a:ext cx="341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другий з'їзд РУП – рішення про перейменування парт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3132000" y="1197000"/>
            <a:ext cx="6299280" cy="532764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автономія</a:t>
            </a: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 України в складі Росії 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можливе об'єднання з РСДРП на федеративних началах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відкидання ідеї революційного екстремізм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1619280" y="0"/>
            <a:ext cx="752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країнська демократично-радикальна партія (УДР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ятно 2 4"/>
          <p:cNvSpPr/>
          <p:nvPr/>
        </p:nvSpPr>
        <p:spPr>
          <a:xfrm rot="351600">
            <a:off x="-297000" y="673200"/>
            <a:ext cx="3961080" cy="21603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1905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0" y="3284640"/>
            <a:ext cx="3419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Ініціатива створе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об'єднання УДП і УР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Табличка 6"/>
          <p:cNvSpPr/>
          <p:nvPr/>
        </p:nvSpPr>
        <p:spPr>
          <a:xfrm>
            <a:off x="6227640" y="1197000"/>
            <a:ext cx="2737080" cy="719280"/>
          </a:xfrm>
          <a:custGeom>
            <a:avLst/>
            <a:gdLst>
              <a:gd name="textAreaLeft" fmla="*/ 84600 w 2737080"/>
              <a:gd name="textAreaRight" fmla="*/ 2652480 w 2737080"/>
              <a:gd name="textAreaTop" fmla="*/ 84600 h 719280"/>
              <a:gd name="textAreaBottom" fmla="*/ 634680 h 719280"/>
            </a:gdLst>
            <a:ahLst/>
            <a:rect l="textAreaLeft" t="textAreaTop" r="textAreaRight" b="textAreaBottom"/>
            <a:pathLst>
              <a:path w="821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564" y="21600"/>
                </a:lnTo>
                <a:arcTo wR="3600" hR="3600" stAng="10800000" swAng="5400000"/>
                <a:lnTo>
                  <a:pt x="82164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. 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Табличка 7"/>
          <p:cNvSpPr/>
          <p:nvPr/>
        </p:nvSpPr>
        <p:spPr>
          <a:xfrm>
            <a:off x="179280" y="6237360"/>
            <a:ext cx="8785440" cy="431640"/>
          </a:xfrm>
          <a:custGeom>
            <a:avLst/>
            <a:gdLst>
              <a:gd name="textAreaLeft" fmla="*/ 50760 w 8785440"/>
              <a:gd name="textAreaRight" fmla="*/ 8734680 w 87854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43929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5690" y="21600"/>
                </a:lnTo>
                <a:arcTo wR="3600" hR="3600" stAng="10800000" swAng="5400000"/>
                <a:lnTo>
                  <a:pt x="43929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907 р. – 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перейменовано в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Українську трудову парт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2916360" y="1989000"/>
            <a:ext cx="6514920" cy="4104000"/>
          </a:xfrm>
          <a:prstGeom prst="verticalScroll">
            <a:avLst>
              <a:gd name="adj" fmla="val 12500"/>
            </a:avLst>
          </a:prstGeom>
          <a:solidFill>
            <a:srgbClr val="ddd9c3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Ідейні положення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автономія</a:t>
            </a: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 України в складі Росії 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ліквідація самодержавств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00"/>
                </a:solidFill>
                <a:latin typeface="Calibri"/>
              </a:rPr>
              <a:t>проголошення демократичних свобо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кріплення матеріа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Три напрямки суспільно-політичного руху в Наддніпрянській Украї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7" descr=""/>
          <p:cNvPicPr/>
          <p:nvPr/>
        </p:nvPicPr>
        <p:blipFill>
          <a:blip r:embed="rId2"/>
          <a:stretch/>
        </p:blipFill>
        <p:spPr>
          <a:xfrm>
            <a:off x="0" y="2193840"/>
            <a:ext cx="4359240" cy="3975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134100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Три напрямки українського суспільно-політичного ру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8" descr=""/>
          <p:cNvPicPr/>
          <p:nvPr/>
        </p:nvPicPr>
        <p:blipFill>
          <a:blip r:embed="rId3"/>
          <a:stretch/>
        </p:blipFill>
        <p:spPr>
          <a:xfrm>
            <a:off x="4286160" y="2163600"/>
            <a:ext cx="48578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alibri"/>
              </a:rPr>
              <a:t>Суспільно – політичне становищ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9080" y="789120"/>
            <a:ext cx="388980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anchor="b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c00000"/>
                </a:solidFill>
                <a:latin typeface="Calibri"/>
              </a:rPr>
              <a:t>Особливіст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557360"/>
            <a:ext cx="4572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багатонаціональ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активізація на початку ХХ ст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арена діяльності загальноросійських парті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відсутність власної партії серед ліберал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Calibri"/>
              </a:rPr>
              <a:t>Загальноросійські партії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libri"/>
              </a:rPr>
              <a:t>1898 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928880"/>
            <a:ext cx="4500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- створення парт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Табличка 6"/>
          <p:cNvSpPr/>
          <p:nvPr/>
        </p:nvSpPr>
        <p:spPr>
          <a:xfrm>
            <a:off x="0" y="785880"/>
            <a:ext cx="9144000" cy="428400"/>
          </a:xfrm>
          <a:custGeom>
            <a:avLst/>
            <a:gdLst>
              <a:gd name="textAreaLeft" fmla="*/ 50400 w 9144000"/>
              <a:gd name="textAreaRight" fmla="*/ 9093600 w 9144000"/>
              <a:gd name="textAreaTop" fmla="*/ 50400 h 428400"/>
              <a:gd name="textAreaBottom" fmla="*/ 378000 h 428400"/>
            </a:gdLst>
            <a:ahLst/>
            <a:rect l="textAreaLeft" t="textAreaTop" r="textAreaRight" b="textAreaBottom"/>
            <a:pathLst>
              <a:path w="4606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073" y="21600"/>
                </a:lnTo>
                <a:arcTo wR="3600" hR="3600" stAng="10800000" swAng="5400000"/>
                <a:lnTo>
                  <a:pt x="460673" y="3600"/>
                </a:lnTo>
                <a:arcTo wR="3600" hR="3600" stAng="54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Російська соціал-демократична робітнича партія (РСДР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Лідери РСДР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Файл:MartovW.jpg"/>
          <p:cNvPicPr/>
          <p:nvPr/>
        </p:nvPicPr>
        <p:blipFill>
          <a:blip r:embed="rId2"/>
          <a:stretch/>
        </p:blipFill>
        <p:spPr>
          <a:xfrm>
            <a:off x="811080" y="938160"/>
            <a:ext cx="3254400" cy="5207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500040" y="5929200"/>
            <a:ext cx="4000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Юлій Мартов (Цедербаум) – один з лідерів фракції меншов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Владимир Ильич  Ульянов (Ленин)"/>
          <p:cNvPicPr/>
          <p:nvPr/>
        </p:nvPicPr>
        <p:blipFill>
          <a:blip r:embed="rId3"/>
          <a:stretch/>
        </p:blipFill>
        <p:spPr>
          <a:xfrm>
            <a:off x="5095800" y="865080"/>
            <a:ext cx="3591000" cy="5187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4929120" y="5929200"/>
            <a:ext cx="4000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олодимир Ленін (Ульянов) – лідер фракції більшов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Calibri"/>
              </a:rPr>
              <a:t>Загальноросійські партії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9080" y="2289600"/>
            <a:ext cx="388980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anchor="b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2060"/>
                </a:solidFill>
                <a:latin typeface="Calibri"/>
              </a:rPr>
              <a:t>Меншовик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906640"/>
            <a:ext cx="4500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парламентська бороть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рефор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демократичні свобо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28760" y="2214360"/>
            <a:ext cx="404172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2060"/>
                </a:solidFill>
                <a:latin typeface="Calibri"/>
              </a:rPr>
              <a:t>Більшовик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2876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соціалістична революці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диктатура пролетарі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Табличка 6"/>
          <p:cNvSpPr/>
          <p:nvPr/>
        </p:nvSpPr>
        <p:spPr>
          <a:xfrm>
            <a:off x="0" y="785880"/>
            <a:ext cx="9144000" cy="428400"/>
          </a:xfrm>
          <a:custGeom>
            <a:avLst/>
            <a:gdLst>
              <a:gd name="textAreaLeft" fmla="*/ 50400 w 9144000"/>
              <a:gd name="textAreaRight" fmla="*/ 9093600 w 9144000"/>
              <a:gd name="textAreaTop" fmla="*/ 50400 h 428400"/>
              <a:gd name="textAreaBottom" fmla="*/ 378000 h 428400"/>
            </a:gdLst>
            <a:ahLst/>
            <a:rect l="textAreaLeft" t="textAreaTop" r="textAreaRight" b="textAreaBottom"/>
            <a:pathLst>
              <a:path w="4606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073" y="21600"/>
                </a:lnTo>
                <a:arcTo wR="3600" hR="3600" stAng="10800000" swAng="5400000"/>
                <a:lnTo>
                  <a:pt x="460673" y="3600"/>
                </a:lnTo>
                <a:arcTo wR="3600" hR="3600" stAng="54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Російська соціал-демократична робітнича партія (РСДР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 2"/>
          <p:cNvSpPr/>
          <p:nvPr/>
        </p:nvSpPr>
        <p:spPr>
          <a:xfrm>
            <a:off x="2500200" y="128592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alibri"/>
              </a:rPr>
              <a:t>1903 р. - роз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8"/>
          <p:cNvSpPr/>
          <p:nvPr/>
        </p:nvSpPr>
        <p:spPr>
          <a:xfrm rot="2120400">
            <a:off x="2184120" y="1755720"/>
            <a:ext cx="571320" cy="5716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9"/>
          <p:cNvSpPr/>
          <p:nvPr/>
        </p:nvSpPr>
        <p:spPr>
          <a:xfrm rot="19110600">
            <a:off x="6403680" y="1760400"/>
            <a:ext cx="571320" cy="5716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2492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Calibri"/>
              </a:rPr>
              <a:t>Загальноросійські партії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Табличка 7"/>
          <p:cNvSpPr/>
          <p:nvPr/>
        </p:nvSpPr>
        <p:spPr>
          <a:xfrm>
            <a:off x="468360" y="785880"/>
            <a:ext cx="8207280" cy="698400"/>
          </a:xfrm>
          <a:custGeom>
            <a:avLst/>
            <a:gdLst>
              <a:gd name="textAreaLeft" fmla="*/ 82080 w 8207280"/>
              <a:gd name="textAreaRight" fmla="*/ 8125200 w 8207280"/>
              <a:gd name="textAreaTop" fmla="*/ 82080 h 698400"/>
              <a:gd name="textAreaBottom" fmla="*/ 616320 h 698400"/>
            </a:gdLst>
            <a:ahLst/>
            <a:rect l="textAreaLeft" t="textAreaTop" r="textAreaRight" b="textAreaBottom"/>
            <a:pathLst>
              <a:path w="2537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0114" y="21600"/>
                </a:lnTo>
                <a:arcTo wR="3600" hR="3600" stAng="10800000" swAng="5400000"/>
                <a:lnTo>
                  <a:pt x="253714" y="3600"/>
                </a:lnTo>
                <a:arcTo wR="3600" hR="3600" stAng="54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Російська партія соціалістів-революціонерів (есер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Текст 2"/>
          <p:cNvSpPr/>
          <p:nvPr/>
        </p:nvSpPr>
        <p:spPr>
          <a:xfrm>
            <a:off x="0" y="1268280"/>
            <a:ext cx="52196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libri"/>
              </a:rPr>
              <a:t>Кінець 1901 – початок 1902  р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0" y="2421000"/>
            <a:ext cx="4788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libri"/>
              </a:rPr>
              <a:t>- створення партії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929200" y="5929200"/>
            <a:ext cx="29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виборний плакат есерів 1917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&amp;Vcy;&amp;icy;&amp;kcy;&amp;tcy;&amp;ocy;&amp;rcy; &amp;Mcy;&amp;icy;&amp;khcy;&amp;acy;&amp;jcy;&amp;lcy;&amp;ocy;&amp;vcy;&amp;icy;&amp;chcy; &amp;CHcy;&amp;iecy;&amp;rcy;&amp;ncy;&amp;ocy;&amp;vcy;"/>
          <p:cNvPicPr/>
          <p:nvPr/>
        </p:nvPicPr>
        <p:blipFill>
          <a:blip r:embed="rId2"/>
          <a:stretch/>
        </p:blipFill>
        <p:spPr>
          <a:xfrm>
            <a:off x="2955960" y="3084480"/>
            <a:ext cx="2609640" cy="3627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3"/>
          <p:cNvSpPr/>
          <p:nvPr/>
        </p:nvSpPr>
        <p:spPr>
          <a:xfrm>
            <a:off x="571680" y="5648400"/>
            <a:ext cx="2428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ктор Чернов – основний ідеолог і теоретик парт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Calibri"/>
              </a:rPr>
              <a:t>Загальноросійські партії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3643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ffffff"/>
                </a:solidFill>
                <a:latin typeface="Calibri"/>
              </a:rPr>
              <a:t>Створенн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67280" y="3571560"/>
            <a:ext cx="536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Самостійна діяльність (після виключення зі складу РСДРП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28760" y="4500360"/>
            <a:ext cx="40417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захист єврей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демократичний маркс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Табличка 6"/>
          <p:cNvSpPr/>
          <p:nvPr/>
        </p:nvSpPr>
        <p:spPr>
          <a:xfrm>
            <a:off x="0" y="785880"/>
            <a:ext cx="9144000" cy="428400"/>
          </a:xfrm>
          <a:custGeom>
            <a:avLst/>
            <a:gdLst>
              <a:gd name="textAreaLeft" fmla="*/ 50400 w 9144000"/>
              <a:gd name="textAreaRight" fmla="*/ 9093600 w 9144000"/>
              <a:gd name="textAreaTop" fmla="*/ 50400 h 428400"/>
              <a:gd name="textAreaBottom" fmla="*/ 378000 h 428400"/>
            </a:gdLst>
            <a:ahLst/>
            <a:rect l="textAreaLeft" t="textAreaTop" r="textAreaRight" b="textAreaBottom"/>
            <a:pathLst>
              <a:path w="4606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073" y="21600"/>
                </a:lnTo>
                <a:arcTo wR="3600" hR="3600" stAng="10800000" swAng="5400000"/>
                <a:lnTo>
                  <a:pt x="460673" y="3600"/>
                </a:lnTo>
                <a:arcTo wR="3600" hR="3600" stAng="54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агальний єврейський робітничий союз” (Бун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екст 2"/>
          <p:cNvSpPr/>
          <p:nvPr/>
        </p:nvSpPr>
        <p:spPr>
          <a:xfrm>
            <a:off x="0" y="1214280"/>
            <a:ext cx="4040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alibri"/>
              </a:rPr>
              <a:t>1897 р.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1571760" y="1785960"/>
            <a:ext cx="57132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9"/>
          <p:cNvSpPr/>
          <p:nvPr/>
        </p:nvSpPr>
        <p:spPr>
          <a:xfrm>
            <a:off x="6072120" y="1785960"/>
            <a:ext cx="57168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Текст 2"/>
          <p:cNvSpPr/>
          <p:nvPr/>
        </p:nvSpPr>
        <p:spPr>
          <a:xfrm>
            <a:off x="4429080" y="1214280"/>
            <a:ext cx="4040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alibri"/>
              </a:rPr>
              <a:t>1903 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F:\флешка\Найновіші документи2\Україна в ХІХ ст\Микола Міхновський.jpg"/>
          <p:cNvPicPr/>
          <p:nvPr/>
        </p:nvPicPr>
        <p:blipFill>
          <a:blip r:embed="rId2"/>
          <a:stretch/>
        </p:blipFill>
        <p:spPr>
          <a:xfrm>
            <a:off x="523800" y="865080"/>
            <a:ext cx="3614760" cy="524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libri"/>
              </a:rPr>
              <a:t>Новий етап національного рух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3840" y="5857560"/>
            <a:ext cx="404028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Микола Міхновський – “батько українського націоналізму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33400" y="1056600"/>
            <a:ext cx="4310280" cy="9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anchor="b">
            <a:normAutofit fontScale="8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1900 рік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Самостійна Україн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57440" y="2174760"/>
            <a:ext cx="4786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libri"/>
              </a:rPr>
              <a:t>Значе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вперше відкрито обґрунтовано самостійність України і проголошено боротьбу за не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зародження націоналізму в Наддніпрянській Украї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7:24:53Z</dcterms:created>
  <dc:creator>Олександр</dc:creator>
  <dc:description/>
  <dc:language>en-US</dc:language>
  <cp:lastModifiedBy>Сергей</cp:lastModifiedBy>
  <dcterms:modified xsi:type="dcterms:W3CDTF">2020-04-26T15:20:46Z</dcterms:modified>
  <cp:revision>67</cp:revision>
  <dc:subject/>
  <dc:title>Суспільно-політичне життя в Наддніпрянській Україні</dc:title>
</cp:coreProperties>
</file>