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0.xml.rels" ContentType="application/vnd.openxmlformats-package.relationships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5.png" ContentType="image/png"/>
  <Override PartName="/ppt/media/image12.jpeg" ContentType="image/jpeg"/>
  <Override PartName="/ppt/media/image11.png" ContentType="image/png"/>
  <Override PartName="/ppt/media/image7.jpeg" ContentType="image/jpeg"/>
  <Override PartName="/ppt/media/image28.jpeg" ContentType="image/jpeg"/>
  <Override PartName="/ppt/media/image6.jpeg" ContentType="image/jpeg"/>
  <Override PartName="/ppt/media/image10.png" ContentType="image/png"/>
  <Override PartName="/ppt/media/image4.jpeg" ContentType="image/jpeg"/>
  <Override PartName="/ppt/media/image2.png" ContentType="image/png"/>
  <Override PartName="/ppt/media/image25.png" ContentType="image/png"/>
  <Override PartName="/ppt/media/image3.png" ContentType="image/png"/>
  <Override PartName="/ppt/media/image17.jpeg" ContentType="image/jpeg"/>
  <Override PartName="/ppt/media/image9.jpeg" ContentType="image/jpeg"/>
  <Override PartName="/ppt/media/image27.png" ContentType="image/png"/>
  <Override PartName="/ppt/media/image26.jpeg" ContentType="image/jpeg"/>
  <Override PartName="/ppt/media/image19.png" ContentType="image/png"/>
  <Override PartName="/ppt/media/image23.jpeg" ContentType="image/jpeg"/>
  <Override PartName="/ppt/media/image18.jpeg" ContentType="image/jpeg"/>
  <Override PartName="/ppt/media/image15.png" ContentType="image/png"/>
  <Override PartName="/ppt/media/image24.jpeg" ContentType="image/jpeg"/>
  <Override PartName="/ppt/media/image1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4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notesMasterIdLst>
    <p:notesMasterId r:id="rId11"/>
  </p:notes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notesMaster" Target="notesMasters/notesMaster1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dt" idx="28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move the slide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40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5"/>
          <p:cNvSpPr>
            <a:spLocks noGrp="1"/>
          </p:cNvSpPr>
          <p:nvPr>
            <p:ph type="ftr" idx="29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6"/>
          <p:cNvSpPr>
            <a:spLocks noGrp="1"/>
          </p:cNvSpPr>
          <p:nvPr>
            <p:ph type="sldNum" idx="30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02CA8-655F-41E8-83CF-D599049B634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44840-920F-4B6B-8BCA-1FA9BE084C8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D187-890B-46BF-8189-47790C04A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78B97-1F9B-401E-8593-8AC152296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887BF5-7F9B-470C-89DE-3D3447BB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F1471A7-7369-4B9C-855E-799230578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B67FAA2-FF2B-4FD9-8820-977C966C3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0820EB-76C8-4611-A43E-19E1C6973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446EEE7-AECD-43CC-9B2B-DBDED3A666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EF51C5-A728-47C9-A1E4-AB00DABB9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1E97192-C032-43BC-A203-915C97860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131D82-F1C5-4416-9CAC-1DD43B4C6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A18F1CE-CDF4-4CFF-933D-93062B0ED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C8C76-9AB9-4933-B122-DED703295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893AE-17E8-4F16-96CD-8979F33392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B4968-56E1-4337-9869-008F30C51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05433-FCFF-4A8B-AAC8-D5DAFE479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489792-8170-4FA9-854A-417D2DB82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88DC2-A12B-4649-8B3E-D979E7DB1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E6DC1-6772-4BE2-81F3-8A68E1F90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B42E5C-CDC6-4996-BC82-C5B4AC73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FCB004-7D4F-4EA2-AB03-55E2DBBA7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0B52-7477-4477-BFCD-AC2944B8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FC9E8-CD3F-4F2F-AA5B-ADFE516DA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84003-E029-49A8-8C6E-31838968B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B7FBCD-A419-4511-8909-C50103B5C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DADD55-F648-4DD7-95DD-C9D89B6516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CFAF4E-442B-45E3-8727-36EAA0D970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2650F2-D41E-4A4E-858B-D6BF4FD3C9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C56495-04BD-4871-9AD8-D40CE0DD7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A47BE1-ADB0-45CA-875F-AE51C3DD7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998207-61A9-4E22-AD6F-5E280FA58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4C476D-09EF-4211-8C3B-D84E28B8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E9EDF-E01C-48F2-BD05-1FADE33FB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85489-EF34-464D-A901-F6E75F8DB3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C52674-ED64-4DB0-9A88-476062200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F6E888-8D8A-4DF4-B2E9-AFFD34DA8F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0A222B-7D64-40A4-9FB3-87B229D89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E8A225-B170-414C-A8E9-2502B738B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8E448-5DAA-4A1F-8E25-3DC63FC85E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9E1B8A-499B-48EF-8802-1BCEF6D4CD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DD6ED9-3089-43E4-A965-614F67DF14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AEE63D-8536-46D2-A842-717D8A0FE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DFF3A0-7782-485E-8DCB-9307E8ABCC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D3CA-FCD1-4360-AF18-0E11CFCD8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D8B676F-BD22-4326-B8FB-8E8AAF40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11B5CD-91BE-46E6-885F-FB13B455A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73043C-8680-4C0C-B463-CDE637F4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468C6E0-BD90-4A03-B9C4-05E980664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92E644E-29C6-4C44-B954-F60D00A3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B2E48-F5E9-4283-9BB3-E523CB2AA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E28E90-2CE9-459B-96BC-ED073D328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064DB5-1944-4515-B200-8AF0705C4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2508A0-1F06-4A1C-B52D-87755D874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1EB796-644E-40DD-927D-7CD6F5261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F3DB3-A2E8-4185-8896-C7E89B1660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282261-E55B-46EA-9E48-A6C8BC79DC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EC6B6BC-B895-449F-84E3-76E70F91E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60949C-F970-4749-93C1-F8090F6B5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4EACDA-06FB-470A-9337-4F9539DE0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929CE6A-65F0-4C55-AD6F-52EC89AFA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F091F4-BA3A-44B6-A647-35176EF2E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B41E89-ECCB-4864-B6A4-9AAA6892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A3094F-255A-4123-9189-2192C603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DBA4771-4E0D-4EC2-8476-6938C2874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67F9C7-0937-4304-BCA9-470022618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9F1E-CD95-4C0F-B9EA-3C73D55A5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7AF8A2-4D4E-426B-A7B0-EF439C4E6D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08194C-B11F-4061-A85E-AEB5E945C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97F6613-5D1F-4C1D-AA65-FC5066651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046E50-DFED-4C74-980B-AED7AB16AB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C27235-5FA9-40C3-BF6C-F9CB218D02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A4135A-35B1-47B0-8C22-65F4FD0C3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4B5CA1-A391-49D3-90AF-3FBA883D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859C4E-3D46-4893-9499-72DFF9632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1492B-174D-407D-B28A-E44A9F3B4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8D082B0-EF0E-42E6-8B62-219FDEB22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E5C69-7F4D-4AEE-A022-92037FD1B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901405-F79E-4E64-BB59-28799619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7F6B15-D2A4-46CE-B3A2-6E3418D58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3A5C252-E1EE-459D-9478-18089BB93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BC7FF7-E54F-440C-81B5-426725FA1E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4F0210-A0DE-43E1-9626-4AF85CD21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303A2C-AFFD-468D-8C6B-AD3FE39F4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61481D8-E80E-4775-9D2A-15F95A40DA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97D4AE2-DD0C-4718-8D65-9DA80E879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5BA14A-E7B9-416A-810B-130346714F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A01BEB-92BB-4872-AF9E-CF0349F2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41D1A-82A6-435F-A39B-A6F674B9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9217EF-C938-4BF2-A5D6-C9A9990E0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608213-944E-4157-AFCB-D94CFC7A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78E72F-F345-41E9-AE1E-10DF2404F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B9AF1F-6210-4CDB-B3DB-9B00D2090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135855-6422-47A5-8141-9A928DD179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6A3E7E-2127-4CA3-8632-A783062C3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EC873D-4D25-40A0-8E21-C52ED609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17E4D5-2C3C-4B18-961A-3DE8ACD5E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CBEE0A4-A9E4-4104-8F92-A5E6D8EF5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F9F84BF-68DA-4C8F-8ED3-46CD8D76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FC77-8AA5-49CB-94C7-F4F7F923F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AC36953-CD51-4DDE-A050-ED7791F7EF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EC9F96A-0856-4F7F-BDF5-2B25066E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55601-FA47-492D-AC80-49D917157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C5CE2B-B8F8-4BF8-B22E-F6DEFF0C2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05CA99-3CB1-4D67-A220-9088DB919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432BC8-AF9B-4299-92B1-1CDA6CFD2F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93003-F787-4D71-98CD-F03C69AFE2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6FF1BD0-000B-4579-B50A-32EE7DBAA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610EB5-51A8-43AD-9322-9F977CEB1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AEC650-F085-4F27-BC12-493A0EF38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D6197-D7A6-463A-83B7-D425D54B6FD0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8C28A-59DF-4D06-879B-8EE750ABA490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3BC133-A807-487A-9A20-D97E6BCC170D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4e7ed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4e7ed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4e7ed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4e7ed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1D180D-41D6-4737-A64A-5B380AE106C6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82EE-DC65-4155-AF0E-FCBFEEC6201A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D4EB1-A34C-46D2-A062-866590BFE9C5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Franklin Gothic Book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CC88C-D8A9-4299-8F0F-B3A0E979B6B7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0A7EAF-05BA-4492-A913-2CA477929D1D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b83d68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b83d68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13f9a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b13f9a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b13f9a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b13f9a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a2355b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35272-B843-49E4-9C57-939C4BF6D3D7}" type="slidenum">
              <a:rPr b="0" lang="ru-RU" sz="1200" spc="-1" strike="noStrike">
                <a:solidFill>
                  <a:srgbClr val="a2355b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png"/><Relationship Id="rId3" Type="http://schemas.openxmlformats.org/officeDocument/2006/relationships/image" Target="../media/image28.jpeg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6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6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6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Заголовок 1" descr=""/>
          <p:cNvPicPr/>
          <p:nvPr/>
        </p:nvPicPr>
        <p:blipFill>
          <a:blip r:embed="rId2"/>
          <a:stretch/>
        </p:blipFill>
        <p:spPr>
          <a:xfrm>
            <a:off x="36360" y="115920"/>
            <a:ext cx="9064800" cy="1316160"/>
          </a:xfrm>
          <a:prstGeom prst="rect">
            <a:avLst/>
          </a:prstGeom>
          <a:ln w="0">
            <a:noFill/>
          </a:ln>
        </p:spPr>
      </p:pic>
      <p:pic>
        <p:nvPicPr>
          <p:cNvPr id="407" name="Рисунок 4" descr=""/>
          <p:cNvPicPr/>
          <p:nvPr/>
        </p:nvPicPr>
        <p:blipFill>
          <a:blip r:embed="rId3"/>
          <a:stretch/>
        </p:blipFill>
        <p:spPr>
          <a:xfrm>
            <a:off x="1042920" y="1403280"/>
            <a:ext cx="727416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8" name="Заголовок 1" descr=""/>
          <p:cNvPicPr/>
          <p:nvPr/>
        </p:nvPicPr>
        <p:blipFill>
          <a:blip r:embed="rId2"/>
          <a:stretch/>
        </p:blipFill>
        <p:spPr>
          <a:xfrm>
            <a:off x="36360" y="49320"/>
            <a:ext cx="8936280" cy="1444680"/>
          </a:xfrm>
          <a:prstGeom prst="rect">
            <a:avLst/>
          </a:prstGeom>
          <a:ln w="0">
            <a:noFill/>
          </a:ln>
        </p:spPr>
      </p:pic>
      <p:pic>
        <p:nvPicPr>
          <p:cNvPr id="439" name="Picture 2" descr="http://www.ecosystema.ru/07referats/slovgeo/img/483.jpg"/>
          <p:cNvPicPr/>
          <p:nvPr/>
        </p:nvPicPr>
        <p:blipFill>
          <a:blip r:embed="rId3"/>
          <a:stretch/>
        </p:blipFill>
        <p:spPr>
          <a:xfrm>
            <a:off x="179280" y="1557360"/>
            <a:ext cx="8856720" cy="513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Заголовок 1" descr=""/>
          <p:cNvPicPr/>
          <p:nvPr/>
        </p:nvPicPr>
        <p:blipFill>
          <a:blip r:embed="rId2"/>
          <a:stretch/>
        </p:blipFill>
        <p:spPr>
          <a:xfrm>
            <a:off x="317520" y="109440"/>
            <a:ext cx="8697960" cy="1152720"/>
          </a:xfrm>
          <a:prstGeom prst="rect">
            <a:avLst/>
          </a:prstGeom>
          <a:ln w="0">
            <a:noFill/>
          </a:ln>
        </p:spPr>
      </p:pic>
      <p:pic>
        <p:nvPicPr>
          <p:cNvPr id="441" name="Picture 2" descr="C:\Users\Family\Pictures\06182989be5e9c1cf1bfd451f223d3a9ч.jpg"/>
          <p:cNvPicPr/>
          <p:nvPr/>
        </p:nvPicPr>
        <p:blipFill>
          <a:blip r:embed="rId3"/>
          <a:stretch/>
        </p:blipFill>
        <p:spPr>
          <a:xfrm>
            <a:off x="755640" y="1125360"/>
            <a:ext cx="7920000" cy="547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WordArt 4"/>
          <p:cNvSpPr txBox="1"/>
          <p:nvPr/>
        </p:nvSpPr>
        <p:spPr>
          <a:xfrm>
            <a:off x="250920" y="189000"/>
            <a:ext cx="4321080" cy="1800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Monotype Corsiva"/>
              </a:rPr>
              <a:t> </a:t>
            </a:r>
            <a:endParaRPr b="0" lang="en-US" sz="18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09" name="Text Box 5"/>
          <p:cNvSpPr/>
          <p:nvPr/>
        </p:nvSpPr>
        <p:spPr>
          <a:xfrm>
            <a:off x="293760" y="189000"/>
            <a:ext cx="8850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Franklin Gothic Book"/>
              </a:rPr>
              <a:t> </a:t>
            </a:r>
            <a:r>
              <a:rPr b="1" lang="ru-RU" sz="4000" spc="-1" strike="noStrike">
                <a:solidFill>
                  <a:srgbClr val="5a2c64"/>
                </a:solidFill>
                <a:latin typeface="Bookman Old Style"/>
              </a:rPr>
              <a:t>Снігова лінія- </a:t>
            </a:r>
            <a:r>
              <a:rPr b="0" lang="ru-RU" sz="4000" spc="-1" strike="noStrike">
                <a:solidFill>
                  <a:srgbClr val="5a2c64"/>
                </a:solidFill>
                <a:latin typeface="Bookman Old Style"/>
              </a:rPr>
              <a:t>рівень, вище якого може накопичуватись сніг.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0" name="Picture 5" descr="C:\Users\Family\Pictures\Cotopaxi_volcano_2008-06-27T1322.jpg"/>
          <p:cNvPicPr/>
          <p:nvPr/>
        </p:nvPicPr>
        <p:blipFill>
          <a:blip r:embed="rId2"/>
          <a:stretch/>
        </p:blipFill>
        <p:spPr>
          <a:xfrm>
            <a:off x="179280" y="3573360"/>
            <a:ext cx="4824360" cy="316224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6" descr="C:\Users\Family\Pictures\images.jpg"/>
          <p:cNvPicPr/>
          <p:nvPr/>
        </p:nvPicPr>
        <p:blipFill>
          <a:blip r:embed="rId3"/>
          <a:stretch/>
        </p:blipFill>
        <p:spPr>
          <a:xfrm>
            <a:off x="4932360" y="1700280"/>
            <a:ext cx="4032360" cy="374472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7" descr="C:\Users\Family\Pictures\fuji.jpg"/>
          <p:cNvPicPr/>
          <p:nvPr/>
        </p:nvPicPr>
        <p:blipFill>
          <a:blip r:embed="rId4"/>
          <a:stretch/>
        </p:blipFill>
        <p:spPr>
          <a:xfrm>
            <a:off x="0" y="1673280"/>
            <a:ext cx="9144000" cy="5184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3" name="Схема 3" descr=""/>
          <p:cNvPicPr/>
          <p:nvPr/>
        </p:nvPicPr>
        <p:blipFill>
          <a:blip r:embed="rId2"/>
          <a:stretch/>
        </p:blipFill>
        <p:spPr>
          <a:xfrm>
            <a:off x="1109520" y="73080"/>
            <a:ext cx="7321680" cy="3998880"/>
          </a:xfrm>
          <a:prstGeom prst="rect">
            <a:avLst/>
          </a:prstGeom>
          <a:ln w="0">
            <a:noFill/>
          </a:ln>
        </p:spPr>
      </p:pic>
      <p:sp>
        <p:nvSpPr>
          <p:cNvPr id="414" name="Прямоугольник 5"/>
          <p:cNvSpPr/>
          <p:nvPr/>
        </p:nvSpPr>
        <p:spPr>
          <a:xfrm>
            <a:off x="395280" y="4076640"/>
            <a:ext cx="8640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man Old Style"/>
              </a:rPr>
              <a:t>Льодовики займають більше 11% суходолу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 u="sng">
                <a:solidFill>
                  <a:srgbClr val="000000"/>
                </a:solidFill>
                <a:uFillTx/>
                <a:latin typeface="Bookman Old Style"/>
              </a:rPr>
              <a:t>Чинники утворення льодовиків</a:t>
            </a:r>
            <a:r>
              <a:rPr b="0" lang="uk-UA" sz="2800" spc="-1" strike="noStrike">
                <a:solidFill>
                  <a:srgbClr val="000000"/>
                </a:solidFill>
                <a:latin typeface="Bookman Old Style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man Old Style"/>
              </a:rPr>
              <a:t>Випадає снігу більше</a:t>
            </a:r>
            <a:r>
              <a:rPr b="0" lang="ru-RU" sz="2800" spc="-1" strike="noStrike">
                <a:solidFill>
                  <a:srgbClr val="000000"/>
                </a:solidFill>
                <a:latin typeface="Bookman Old Style"/>
              </a:rPr>
              <a:t>,</a:t>
            </a:r>
            <a:r>
              <a:rPr b="0" lang="uk-UA" sz="2800" spc="-1" strike="noStrike">
                <a:solidFill>
                  <a:srgbClr val="000000"/>
                </a:solidFill>
                <a:latin typeface="Bookman Old Style"/>
              </a:rPr>
              <a:t> ніж тане;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000000"/>
                </a:solidFill>
                <a:latin typeface="Bookman Old Style"/>
              </a:rPr>
              <a:t>Вище снігової лінії сніг не тане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WordArt 4"/>
          <p:cNvSpPr txBox="1"/>
          <p:nvPr/>
        </p:nvSpPr>
        <p:spPr>
          <a:xfrm>
            <a:off x="1476360" y="0"/>
            <a:ext cx="6624720" cy="1657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Monotype Corsiva"/>
              </a:rPr>
              <a:t> 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Monotype Corsiva"/>
              <a:ea typeface="Monotype Corsiva"/>
            </a:endParaRPr>
          </a:p>
        </p:txBody>
      </p:sp>
      <p:pic>
        <p:nvPicPr>
          <p:cNvPr id="416" name="Picture 6" descr="p15_1_4"/>
          <p:cNvPicPr/>
          <p:nvPr/>
        </p:nvPicPr>
        <p:blipFill>
          <a:blip r:embed="rId2"/>
          <a:stretch/>
        </p:blipFill>
        <p:spPr>
          <a:xfrm>
            <a:off x="4356000" y="765000"/>
            <a:ext cx="4680000" cy="2951280"/>
          </a:xfrm>
          <a:prstGeom prst="rect">
            <a:avLst/>
          </a:prstGeom>
          <a:ln w="0">
            <a:noFill/>
          </a:ln>
        </p:spPr>
      </p:pic>
      <p:sp>
        <p:nvSpPr>
          <p:cNvPr id="417" name="Прямоугольник 4"/>
          <p:cNvSpPr/>
          <p:nvPr/>
        </p:nvSpPr>
        <p:spPr>
          <a:xfrm>
            <a:off x="468360" y="907920"/>
            <a:ext cx="35672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a2c64"/>
                </a:solidFill>
                <a:latin typeface="Bookman Old Style"/>
              </a:rPr>
              <a:t>Гірські льодовики дуже різноманітні за розмірами і формою - в залежності від рельєфу гір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a2c64"/>
                </a:solidFill>
                <a:latin typeface="Bookman Old Style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sp>
        <p:nvSpPr>
          <p:cNvPr id="418" name="Прямоугольник 5"/>
          <p:cNvSpPr/>
          <p:nvPr/>
        </p:nvSpPr>
        <p:spPr>
          <a:xfrm>
            <a:off x="1403280" y="115920"/>
            <a:ext cx="6626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7030a0"/>
                </a:solidFill>
                <a:latin typeface="Bookman Old Style"/>
              </a:rPr>
              <a:t>Гірські льодовики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19" name="Picture 8" descr="C:\Users\Family\Pictures\annapurna-P4V0420.jpg"/>
          <p:cNvPicPr/>
          <p:nvPr/>
        </p:nvPicPr>
        <p:blipFill>
          <a:blip r:embed="rId3"/>
          <a:stretch/>
        </p:blipFill>
        <p:spPr>
          <a:xfrm>
            <a:off x="108000" y="3716280"/>
            <a:ext cx="6624720" cy="2925720"/>
          </a:xfrm>
          <a:prstGeom prst="rect">
            <a:avLst/>
          </a:prstGeom>
          <a:ln w="0">
            <a:noFill/>
          </a:ln>
        </p:spPr>
      </p:pic>
      <p:sp>
        <p:nvSpPr>
          <p:cNvPr id="420" name="Прямоугольник 8"/>
          <p:cNvSpPr/>
          <p:nvPr/>
        </p:nvSpPr>
        <p:spPr>
          <a:xfrm>
            <a:off x="6516720" y="4221000"/>
            <a:ext cx="2448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5a2c64"/>
                </a:solidFill>
                <a:latin typeface="Bookman Old Style"/>
              </a:rPr>
              <a:t>Одні льодовики, лежать як шапки. 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Прямоугольник 2"/>
          <p:cNvSpPr/>
          <p:nvPr/>
        </p:nvSpPr>
        <p:spPr>
          <a:xfrm>
            <a:off x="611280" y="260280"/>
            <a:ext cx="813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5a2c64"/>
                </a:solidFill>
                <a:latin typeface="Bookman Old Style"/>
              </a:rPr>
              <a:t>Інші лежать в чашевидних заглибленнях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2" name="Picture 4" descr="http://it.tourbina.ru/photos.3/4/2/424577/big.photo.jpg"/>
          <p:cNvPicPr/>
          <p:nvPr/>
        </p:nvPicPr>
        <p:blipFill>
          <a:blip r:embed="rId2"/>
          <a:srcRect l="0" t="0" r="0" b="5638"/>
          <a:stretch/>
        </p:blipFill>
        <p:spPr>
          <a:xfrm>
            <a:off x="108000" y="836640"/>
            <a:ext cx="8820000" cy="583236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7" descr="C:\Users\Family\Pictures\images43QXIVXQ.jpg"/>
          <p:cNvPicPr/>
          <p:nvPr/>
        </p:nvPicPr>
        <p:blipFill>
          <a:blip r:embed="rId3"/>
          <a:stretch/>
        </p:blipFill>
        <p:spPr>
          <a:xfrm>
            <a:off x="0" y="907920"/>
            <a:ext cx="8964720" cy="579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Прямоугольник 1"/>
          <p:cNvSpPr/>
          <p:nvPr/>
        </p:nvSpPr>
        <p:spPr>
          <a:xfrm>
            <a:off x="5292720" y="333360"/>
            <a:ext cx="3382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5a2c64"/>
                </a:solidFill>
                <a:latin typeface="Bookman Old Style"/>
              </a:rPr>
              <a:t>Треті заповнюють гірські долини.</a:t>
            </a:r>
            <a:endParaRPr b="0" lang="en-US" sz="28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25" name="Picture 5" descr="C:\Users\Family\Pictures\untitled.png"/>
          <p:cNvPicPr/>
          <p:nvPr/>
        </p:nvPicPr>
        <p:blipFill>
          <a:blip r:embed="rId2"/>
          <a:stretch/>
        </p:blipFill>
        <p:spPr>
          <a:xfrm>
            <a:off x="4572000" y="3344760"/>
            <a:ext cx="4572000" cy="339732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2" descr="C:\Users\Family\Pictures\kakhiltna-2.jpg"/>
          <p:cNvPicPr/>
          <p:nvPr/>
        </p:nvPicPr>
        <p:blipFill>
          <a:blip r:embed="rId3"/>
          <a:stretch/>
        </p:blipFill>
        <p:spPr>
          <a:xfrm>
            <a:off x="0" y="0"/>
            <a:ext cx="5148360" cy="326088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5" descr="C:\Users\Family\Pictures\Nature\63.jpg"/>
          <p:cNvPicPr/>
          <p:nvPr/>
        </p:nvPicPr>
        <p:blipFill>
          <a:blip r:embed="rId4"/>
          <a:stretch/>
        </p:blipFill>
        <p:spPr>
          <a:xfrm>
            <a:off x="0" y="3357720"/>
            <a:ext cx="4500720" cy="33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WordArt 4"/>
          <p:cNvSpPr txBox="1"/>
          <p:nvPr/>
        </p:nvSpPr>
        <p:spPr>
          <a:xfrm>
            <a:off x="179280" y="0"/>
            <a:ext cx="3456000" cy="1441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Monotype Corsiva"/>
              </a:rPr>
              <a:t> 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Monotype Corsiva"/>
              <a:ea typeface="Monotype Corsiva"/>
            </a:endParaRPr>
          </a:p>
        </p:txBody>
      </p:sp>
      <p:sp>
        <p:nvSpPr>
          <p:cNvPr id="429" name="Text Box 5"/>
          <p:cNvSpPr/>
          <p:nvPr/>
        </p:nvSpPr>
        <p:spPr>
          <a:xfrm>
            <a:off x="0" y="18900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874396"/>
                </a:solidFill>
                <a:latin typeface="Franklin Gothic Book"/>
              </a:rPr>
              <a:t>  </a:t>
            </a:r>
            <a:r>
              <a:rPr b="1" lang="uk-UA" sz="4000" spc="-1" strike="noStrike">
                <a:solidFill>
                  <a:srgbClr val="874396"/>
                </a:solidFill>
                <a:latin typeface="Franklin Gothic Book"/>
              </a:rPr>
              <a:t>Морена- це л</a:t>
            </a:r>
            <a:r>
              <a:rPr b="1" lang="ru-RU" sz="4000" spc="-1" strike="noStrike">
                <a:solidFill>
                  <a:srgbClr val="874396"/>
                </a:solidFill>
                <a:latin typeface="Franklin Gothic Book"/>
              </a:rPr>
              <a:t>ьодовикові  відклади</a:t>
            </a:r>
            <a:endParaRPr b="0" lang="en-US" sz="40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0" name="Picture 6" descr="Ледниково-тектоническое озеро"/>
          <p:cNvPicPr/>
          <p:nvPr/>
        </p:nvPicPr>
        <p:blipFill>
          <a:blip r:embed="rId2"/>
          <a:stretch/>
        </p:blipFill>
        <p:spPr>
          <a:xfrm>
            <a:off x="324000" y="1268280"/>
            <a:ext cx="8569080" cy="5224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Заголовок 1" descr=""/>
          <p:cNvPicPr/>
          <p:nvPr/>
        </p:nvPicPr>
        <p:blipFill>
          <a:blip r:embed="rId2"/>
          <a:stretch/>
        </p:blipFill>
        <p:spPr>
          <a:xfrm>
            <a:off x="171360" y="189000"/>
            <a:ext cx="8801280" cy="907920"/>
          </a:xfrm>
          <a:prstGeom prst="rect">
            <a:avLst/>
          </a:prstGeom>
          <a:ln w="0">
            <a:noFill/>
          </a:ln>
        </p:spPr>
      </p:pic>
      <p:sp>
        <p:nvSpPr>
          <p:cNvPr id="432" name="Прямоугольник 2"/>
          <p:cNvSpPr/>
          <p:nvPr/>
        </p:nvSpPr>
        <p:spPr>
          <a:xfrm>
            <a:off x="5076720" y="981000"/>
            <a:ext cx="345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	</a:t>
            </a: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                                  </a:t>
            </a:r>
            <a:r>
              <a:rPr b="0" lang="uk-UA" sz="2400" spc="-1" strike="noStrike">
                <a:solidFill>
                  <a:srgbClr val="000000"/>
                </a:solidFill>
                <a:latin typeface="Bookman Old Style"/>
              </a:rPr>
              <a:t>Більше 90% прісної води.</a:t>
            </a:r>
            <a:endParaRPr b="0" lang="en-US" sz="2400" spc="-1" strike="noStrike">
              <a:solidFill>
                <a:srgbClr val="000000"/>
              </a:solidFill>
              <a:latin typeface="Franklin Gothic Book"/>
            </a:endParaRPr>
          </a:p>
        </p:txBody>
      </p:sp>
      <p:pic>
        <p:nvPicPr>
          <p:cNvPr id="433" name="Рисунок 4" descr=""/>
          <p:cNvPicPr/>
          <p:nvPr/>
        </p:nvPicPr>
        <p:blipFill>
          <a:blip r:embed="rId3"/>
          <a:stretch/>
        </p:blipFill>
        <p:spPr>
          <a:xfrm>
            <a:off x="0" y="1125360"/>
            <a:ext cx="4716360" cy="4351680"/>
          </a:xfrm>
          <a:prstGeom prst="rect">
            <a:avLst/>
          </a:prstGeom>
          <a:ln w="0">
            <a:noFill/>
          </a:ln>
        </p:spPr>
      </p:pic>
      <p:pic>
        <p:nvPicPr>
          <p:cNvPr id="434" name="Рисунок 2" descr=""/>
          <p:cNvPicPr/>
          <p:nvPr/>
        </p:nvPicPr>
        <p:blipFill>
          <a:blip r:embed="rId4"/>
          <a:stretch/>
        </p:blipFill>
        <p:spPr>
          <a:xfrm>
            <a:off x="4788000" y="2492280"/>
            <a:ext cx="4176720" cy="421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Заголовок 1" descr=""/>
          <p:cNvPicPr/>
          <p:nvPr/>
        </p:nvPicPr>
        <p:blipFill>
          <a:blip r:embed="rId2"/>
          <a:stretch/>
        </p:blipFill>
        <p:spPr>
          <a:xfrm>
            <a:off x="36360" y="49320"/>
            <a:ext cx="8936280" cy="938160"/>
          </a:xfrm>
          <a:prstGeom prst="rect">
            <a:avLst/>
          </a:prstGeom>
          <a:ln w="0">
            <a:noFill/>
          </a:ln>
        </p:spPr>
      </p:pic>
      <p:pic>
        <p:nvPicPr>
          <p:cNvPr id="436" name="Рисунок 6" descr=""/>
          <p:cNvPicPr/>
          <p:nvPr/>
        </p:nvPicPr>
        <p:blipFill>
          <a:blip r:embed="rId3"/>
          <a:stretch/>
        </p:blipFill>
        <p:spPr>
          <a:xfrm>
            <a:off x="108000" y="1268280"/>
            <a:ext cx="4449600" cy="5472360"/>
          </a:xfrm>
          <a:prstGeom prst="rect">
            <a:avLst/>
          </a:prstGeom>
          <a:ln w="0">
            <a:noFill/>
          </a:ln>
        </p:spPr>
      </p:pic>
      <p:pic>
        <p:nvPicPr>
          <p:cNvPr id="437" name="Рисунок 2" descr=""/>
          <p:cNvPicPr/>
          <p:nvPr/>
        </p:nvPicPr>
        <p:blipFill>
          <a:blip r:embed="rId4"/>
          <a:stretch/>
        </p:blipFill>
        <p:spPr>
          <a:xfrm>
            <a:off x="4651200" y="1268280"/>
            <a:ext cx="4492800" cy="537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0T09:32:33Z</dcterms:created>
  <dc:creator>Виталий</dc:creator>
  <dc:description/>
  <dc:language>en-US</dc:language>
  <cp:lastModifiedBy>Сергей</cp:lastModifiedBy>
  <dcterms:modified xsi:type="dcterms:W3CDTF">2020-04-25T11:49:18Z</dcterms:modified>
  <cp:revision>55</cp:revision>
  <dc:subject/>
  <dc:title>БОЛОТА ТА ЛЬОДОВИКИ</dc:title>
</cp:coreProperties>
</file>