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D41-A459-40EE-8681-DBDDD95A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1E8-B3C0-4ED0-AF81-2C6E376C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3CA-101D-4FA1-B14B-06EA3404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D69-D9EA-4DA5-85F9-67818BC6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A58-1A00-4AD8-BD4D-D533A97C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C505-6B1D-4ADE-9260-2376FAF0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C43-D675-4963-8B0D-16BE2A88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D28-436D-4D05-A879-EC6E0A20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49B-F490-4DD5-9469-3E663CB4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AA7-931F-4962-A561-73E366BB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7AE-DB26-44F5-9309-EC14E778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5E5-87EC-4C47-9056-D82ACD54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42C1-EC1A-4955-B3ED-BB195DF57233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Рівняння стану ідеального газ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Рівняння стану газу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Клапейрон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івняння, яке пов’язує  між собою макропараметри стану газу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, V, T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357280" y="2643120"/>
            <a:ext cx="1721160" cy="676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286160" y="2571840"/>
            <a:ext cx="1260720" cy="857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2857680" y="3429000"/>
            <a:ext cx="3103560" cy="81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1500120" y="4357800"/>
            <a:ext cx="1833480" cy="912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9" name="TextBox 7"/>
          <p:cNvSpPr/>
          <p:nvPr/>
        </p:nvSpPr>
        <p:spPr>
          <a:xfrm>
            <a:off x="3714840" y="457200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івняння Клапейрона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-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івняння стану газу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Мендєлєєва-Клапейрон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786040" y="1500120"/>
            <a:ext cx="3263760" cy="89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3571920" y="2500200"/>
            <a:ext cx="1630440" cy="81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2071800" y="3143160"/>
            <a:ext cx="2350800" cy="73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4643280" y="3071880"/>
            <a:ext cx="1887840" cy="79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5"/>
          <a:stretch/>
        </p:blipFill>
        <p:spPr>
          <a:xfrm>
            <a:off x="1143000" y="4214880"/>
            <a:ext cx="668016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Закон Дальт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иск суміші газів дорівнює сумі парціальних тисків газ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928880" y="2643120"/>
            <a:ext cx="5253120" cy="696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1571760" y="3429000"/>
            <a:ext cx="574488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Ізотермічний процес.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Закон Бойля-Маріот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1939680" cy="585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2170080" cy="69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4" name="TextBox 5"/>
          <p:cNvSpPr/>
          <p:nvPr/>
        </p:nvSpPr>
        <p:spPr>
          <a:xfrm>
            <a:off x="857160" y="250020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и постійній температурі та незмінній масі газу  добуток тиску на об’єм  є величина постій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357120" y="3786120"/>
            <a:ext cx="86374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Ізобарний процес.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Закон Гей-Люсса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857160" y="2500200"/>
            <a:ext cx="764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и постійному тиску та незмінній масі газу  відношення об’єму до абсолютної температури є величина постій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1817640" cy="592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4286160" y="1357200"/>
            <a:ext cx="1600200" cy="1208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500040" y="4000680"/>
            <a:ext cx="820908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Ізохорний процес. Закон Шар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714680" y="1428840"/>
            <a:ext cx="1852560" cy="592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4786200" y="1357200"/>
            <a:ext cx="1471680" cy="941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4" name="TextBox 5"/>
          <p:cNvSpPr/>
          <p:nvPr/>
        </p:nvSpPr>
        <p:spPr>
          <a:xfrm>
            <a:off x="857160" y="2500200"/>
            <a:ext cx="764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и постійному об’ємі  та незмінній масі газу  відношення тиску до абсолютної температури є величина постій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1071720" y="3857760"/>
            <a:ext cx="73548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30T13:02:09Z</dcterms:modified>
  <cp:revision>6</cp:revision>
  <dc:subject/>
  <dc:title>Рівняння стану ідеального газу</dc:title>
</cp:coreProperties>
</file>