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A300-B013-448E-89C0-8AE527619C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D5C3-A559-44BE-9F47-21EBC8815E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5E0-D3F3-4C95-A812-8FE00A7B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D1B-34ED-45D7-8ECA-C325544A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5BD-744A-4F31-ABBF-A7CBFE38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6CF-430E-41D3-A022-83462CA7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209-DF60-470D-9041-7C5326E3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441-8AE9-4348-BDC0-C665A8F5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B5B-0C36-4A09-99AA-43C78449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A20-7C1C-4CDC-966A-AA24D4F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340-568D-48F4-82F7-7447971F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E5E-81E4-4958-93B2-8E23F830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132-07D0-4B14-BE4B-EB72AC09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A63-C2D7-4D20-A027-326973ED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8B89-EC70-4D6C-BB2F-C7C50D38AF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сновне рівняння молекулярно-кінетичної теорії газ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имірювання температури. Абсолютна шка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143080" y="1643040"/>
            <a:ext cx="4273560" cy="166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143160" y="3857760"/>
            <a:ext cx="2170080" cy="590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слід Штер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14680" y="1500120"/>
            <a:ext cx="1798560" cy="993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4214880" y="1357200"/>
            <a:ext cx="2624040" cy="1152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1857240" y="2428920"/>
            <a:ext cx="4776840" cy="134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2500200" y="3857760"/>
            <a:ext cx="378648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слід Штер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5356440" cy="2633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3714840" y="4214880"/>
            <a:ext cx="1797120" cy="36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3929040" y="4643280"/>
            <a:ext cx="1236600" cy="88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4"/>
          <a:stretch/>
        </p:blipFill>
        <p:spPr>
          <a:xfrm>
            <a:off x="2500200" y="5786280"/>
            <a:ext cx="3183120" cy="824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5"/>
          <a:stretch/>
        </p:blipFill>
        <p:spPr>
          <a:xfrm>
            <a:off x="5715000" y="5857920"/>
            <a:ext cx="112716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мі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деальний г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сновне рівняння МКТ газ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мпература та її вимірюв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бсолютна температурна шкала. Абсолютний ну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мірювання швидкості руху молекул газу. Дослід Штер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Ідеальний г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ластивості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мом молекул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можна знехтувати в порівнянні з о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мом посудин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іж молекулами газу немає сил взаємодії. Вони вникають лише при ударі молеку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олекули при взаємодії поводять себе як пружні куль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араметри стану газ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36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ікропарамет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кропараметр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видкість, маса, розміри, енергія 1 молекул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ск, об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uk-UA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м, температура газу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Основне рівняння МКТ газ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565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я арифметична швидкі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я квадратична швидкі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v&gt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v</a:t>
                      </a:r>
                      <a:r>
                        <a:rPr b="0" lang="uk-UA" sz="3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кв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57160" y="3643200"/>
            <a:ext cx="3040200" cy="74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19400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ивід форму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1448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здовж осі ОХ 1/3 молекул. В одном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прямку 1/6 молеку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За час 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об стінку  вдарить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3214800" cy="2425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429080" y="2357280"/>
            <a:ext cx="2656080" cy="3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5072040" y="2786040"/>
            <a:ext cx="1389240" cy="3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7072200" y="2928960"/>
            <a:ext cx="785880" cy="579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5"/>
          <a:stretch/>
        </p:blipFill>
        <p:spPr>
          <a:xfrm>
            <a:off x="3786120" y="3500280"/>
            <a:ext cx="153828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6"/>
          <a:stretch/>
        </p:blipFill>
        <p:spPr>
          <a:xfrm>
            <a:off x="5500800" y="3357720"/>
            <a:ext cx="1379520" cy="65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7"/>
          <a:stretch/>
        </p:blipFill>
        <p:spPr>
          <a:xfrm>
            <a:off x="3643200" y="4000680"/>
            <a:ext cx="4343400" cy="534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8"/>
          <a:stretch/>
        </p:blipFill>
        <p:spPr>
          <a:xfrm>
            <a:off x="714240" y="4643280"/>
            <a:ext cx="2198880" cy="49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9"/>
          <a:stretch/>
        </p:blipFill>
        <p:spPr>
          <a:xfrm>
            <a:off x="3143160" y="4500720"/>
            <a:ext cx="5519880" cy="65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10"/>
          <a:stretch/>
        </p:blipFill>
        <p:spPr>
          <a:xfrm>
            <a:off x="571680" y="5214960"/>
            <a:ext cx="2400120" cy="779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2" name="Picture 13" descr=""/>
          <p:cNvPicPr/>
          <p:nvPr/>
        </p:nvPicPr>
        <p:blipFill>
          <a:blip r:embed="rId11"/>
          <a:stretch/>
        </p:blipFill>
        <p:spPr>
          <a:xfrm>
            <a:off x="3357720" y="5143680"/>
            <a:ext cx="1761840" cy="90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"/>
          <p:cNvPicPr/>
          <p:nvPr/>
        </p:nvPicPr>
        <p:blipFill>
          <a:blip r:embed="rId12"/>
          <a:stretch/>
        </p:blipFill>
        <p:spPr>
          <a:xfrm>
            <a:off x="6000840" y="5072040"/>
            <a:ext cx="1800000" cy="1035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Теплова рівноваг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стан системи при якому макроскопічні параметри як завгодно довго залишаються незмінн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характеризує стан теплової рівноваги системи так як має строго визначене значе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ясненн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що при контакті двох тіл їх фізичні параметри (тиск і о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м) не змінюються, отже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в них однакова тобто між ними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теплова рівнов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емп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71880" y="1714680"/>
            <a:ext cx="1584360" cy="66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857840" y="164304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2428920" y="2357280"/>
            <a:ext cx="1974960" cy="831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4643280" y="2357280"/>
            <a:ext cx="1775160" cy="922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5"/>
          <a:stretch/>
        </p:blipFill>
        <p:spPr>
          <a:xfrm>
            <a:off x="3000240" y="3357720"/>
            <a:ext cx="500040" cy="70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6"/>
          <a:stretch/>
        </p:blipFill>
        <p:spPr>
          <a:xfrm>
            <a:off x="3571920" y="3500280"/>
            <a:ext cx="474480" cy="40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7"/>
          <a:stretch/>
        </p:blipFill>
        <p:spPr>
          <a:xfrm>
            <a:off x="4643280" y="3357720"/>
            <a:ext cx="1148040" cy="668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8"/>
          <a:stretch/>
        </p:blipFill>
        <p:spPr>
          <a:xfrm>
            <a:off x="1357200" y="4071960"/>
            <a:ext cx="1517760" cy="760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9"/>
          <a:stretch/>
        </p:blipFill>
        <p:spPr>
          <a:xfrm>
            <a:off x="3571920" y="4000680"/>
            <a:ext cx="1596960" cy="796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10"/>
          <a:stretch/>
        </p:blipFill>
        <p:spPr>
          <a:xfrm>
            <a:off x="5572080" y="3929040"/>
            <a:ext cx="262584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11"/>
          <a:stretch/>
        </p:blipFill>
        <p:spPr>
          <a:xfrm>
            <a:off x="2286000" y="5000760"/>
            <a:ext cx="1682640" cy="874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0" name="Picture 14" descr=""/>
          <p:cNvPicPr/>
          <p:nvPr/>
        </p:nvPicPr>
        <p:blipFill>
          <a:blip r:embed="rId12"/>
          <a:stretch/>
        </p:blipFill>
        <p:spPr>
          <a:xfrm>
            <a:off x="4572000" y="5072040"/>
            <a:ext cx="1504800" cy="641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30T12:53:35Z</dcterms:modified>
  <cp:revision>12</cp:revision>
  <dc:subject/>
  <dc:title>Основне рівняння МКТ</dc:title>
</cp:coreProperties>
</file>