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0B9-77A5-4F4B-BEED-AA3A8058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581-C968-44FE-B1FF-3A34D0A8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E67-B10B-49C7-8DA5-DD9278A3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05A-9BF3-490F-98C7-5E978AA2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F82-A2B6-4925-841F-943BE976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025-7704-4F14-977E-8F72AB9E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75D-F3C4-419B-BFC8-D51C2609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393-1912-4699-AB09-A7261F98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595-9AD2-46CA-BB89-E2009795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AD8-0098-44EC-B5F3-F0CCADF9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ACC-5307-4768-8B35-38E84A3F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97D-60DE-4C1D-A2AD-95D8CD5F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E0F0-FE41-4759-859F-DAEEC71E80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Основи молекулярно-кінетичної теорії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аса молек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важити неможливо – дуже м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-спектрограф (таблиця Мендєлєє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раще порівняти (відносні маси) . Порівнюють з 1/12 масою ізотопу вуглецю-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28800" y="2786040"/>
            <a:ext cx="3408120" cy="550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714680" y="5072040"/>
            <a:ext cx="54054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ідносна атомна (молекулярна мас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31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357720" y="1928880"/>
            <a:ext cx="2450880" cy="1417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Кількість речовини. Стала Авогад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значається кількістю молекул в речовин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ількість велика тому порівнюють з кількістю молекул в 0,012 к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786280" y="2643120"/>
            <a:ext cx="828720" cy="59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286080" y="3286080"/>
            <a:ext cx="2170080" cy="1363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2071800" y="5000760"/>
            <a:ext cx="4446360" cy="150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5786280" y="3714840"/>
            <a:ext cx="15526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олярна ма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а речовини взятої в кількості 1 м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928960" y="2428920"/>
            <a:ext cx="2460600" cy="771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2714760" y="3714840"/>
            <a:ext cx="2912760" cy="780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1857240" y="5000760"/>
            <a:ext cx="1660680" cy="1035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9" name="Picture 6" descr=""/>
          <p:cNvPicPr/>
          <p:nvPr/>
        </p:nvPicPr>
        <p:blipFill>
          <a:blip r:embed="rId5"/>
          <a:stretch/>
        </p:blipFill>
        <p:spPr>
          <a:xfrm>
            <a:off x="4143240" y="4929120"/>
            <a:ext cx="3395880" cy="1143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озміри молек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м 1 молеку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исло молекул в тіл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572080" y="1500120"/>
            <a:ext cx="3254400" cy="24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071960" y="1500120"/>
            <a:ext cx="1046160" cy="841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857160" y="2714760"/>
            <a:ext cx="1776600" cy="71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2786040" y="2714760"/>
            <a:ext cx="1643040" cy="788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1000080" y="3429000"/>
            <a:ext cx="1000080" cy="64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2714760" y="3429000"/>
            <a:ext cx="15714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7"/>
          <a:stretch/>
        </p:blipFill>
        <p:spPr>
          <a:xfrm>
            <a:off x="1000080" y="4214880"/>
            <a:ext cx="960480" cy="698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8"/>
          <a:stretch/>
        </p:blipFill>
        <p:spPr>
          <a:xfrm>
            <a:off x="2714760" y="4214880"/>
            <a:ext cx="1800000" cy="69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9"/>
          <a:stretch/>
        </p:blipFill>
        <p:spPr>
          <a:xfrm>
            <a:off x="357120" y="4786200"/>
            <a:ext cx="2156040" cy="123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10"/>
          <a:stretch/>
        </p:blipFill>
        <p:spPr>
          <a:xfrm>
            <a:off x="2643120" y="4857840"/>
            <a:ext cx="2000160" cy="116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1"/>
          <a:stretch/>
        </p:blipFill>
        <p:spPr>
          <a:xfrm>
            <a:off x="5214960" y="4643280"/>
            <a:ext cx="3429000" cy="1500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сновні положення М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слідне підтвердження основних положень М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ифузія та броунівський р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заємодія атомів та молекул речови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а і розміри молек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ількість речови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ала Авогад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сновні положення МК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 Усі речовини складаються з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атомів, молекул,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іонів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…, які розділені між собою проміж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Основні положення М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  Частинки в речовині з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зані між собою силами взаємодії –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итягання та відштовхув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00680" y="3643200"/>
            <a:ext cx="434628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Основні положення М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Частики перебувають в безперервному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пловому рус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00240" y="3143160"/>
            <a:ext cx="30290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ифузі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заємне проникнення однієї речовини в інш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см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500800" y="1500120"/>
            <a:ext cx="23907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Броунівський ру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Невпорядкований рух дрібних частинок речовини, що зависли в рідині чи газі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Траєкторія руху частинки дуже складна і непередбачува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 1827 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р. англійський ботанік Броун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643280" y="1500120"/>
            <a:ext cx="4200840" cy="297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5572080" y="4500720"/>
            <a:ext cx="22478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заємодія між молекулами (атомам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43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00040" y="3000240"/>
            <a:ext cx="3714840" cy="16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4375080" y="1500120"/>
            <a:ext cx="47689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Будова газів рідин і твердих ті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928800" y="1643040"/>
            <a:ext cx="7130880" cy="322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1071720" y="4286160"/>
            <a:ext cx="1714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3286080" y="4286160"/>
            <a:ext cx="1928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Рі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429160" y="4071960"/>
            <a:ext cx="26431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верде кристалічне ті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30T12:59:39Z</dcterms:modified>
  <cp:revision>20</cp:revision>
  <dc:subject/>
  <dc:title>Основи молекулярно-кінетичної теорії </dc:title>
</cp:coreProperties>
</file>