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AF2F-BBC0-49D4-89CD-E62F52966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7F7F-101B-46A9-9A6A-099F1256F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A2F2-A0E3-471E-BDC3-A2726F5A3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11EF-83FD-44AE-BF06-F48C71ABA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506C-353C-4269-B17A-AD3850F85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D6FC-6F9E-4BEA-AE0A-D60C181CC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D168-6631-4D06-BC27-EB6A7766F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8475-4262-47A7-BC52-37E4B00BD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C5DA-8F30-4262-AF2E-2F393F291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AC20-F13C-4F07-A748-0DA0C4D52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4A8C-17B3-431F-B69E-76885368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D430-FB66-44A8-9B73-5960E0688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FAC5B-EC0B-4EBA-88FD-E655FDEFFD62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Математичний маятник. Коливання тіла на пружині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Вимушені коливан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Коливання, які відбуваються під дією зовнішньої періодичної си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5000760" y="1714680"/>
            <a:ext cx="3014640" cy="4485960"/>
          </a:xfrm>
          <a:prstGeom prst="rect">
            <a:avLst/>
          </a:prstGeom>
          <a:ln w="0">
            <a:noFill/>
          </a:ln>
        </p:spPr>
      </p:pic>
      <p:sp>
        <p:nvSpPr>
          <p:cNvPr id="70" name="TextBox 4"/>
          <p:cNvSpPr/>
          <p:nvPr/>
        </p:nvSpPr>
        <p:spPr>
          <a:xfrm>
            <a:off x="5500800" y="5929200"/>
            <a:ext cx="1928880" cy="37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Вимушені та вільні коливан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3471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Основна відмінність полягає в тому, що при вільних коливаннях система отримує енергію один ра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4143240" y="1571760"/>
            <a:ext cx="4641840" cy="2958840"/>
          </a:xfrm>
          <a:prstGeom prst="rect">
            <a:avLst/>
          </a:prstGeom>
          <a:ln w="0">
            <a:noFill/>
          </a:ln>
        </p:spPr>
      </p:pic>
      <p:sp>
        <p:nvSpPr>
          <p:cNvPr id="74" name="TextBox 4"/>
          <p:cNvSpPr/>
          <p:nvPr/>
        </p:nvSpPr>
        <p:spPr>
          <a:xfrm>
            <a:off x="4143240" y="457200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Встановлення коливан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Резонан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Явище різкого зростання амплітуди коливань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Спостерігається коли власна частота коливань коливної системи співпадатиме з частотою зовнішньої сил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4643280" y="2143080"/>
            <a:ext cx="4054680" cy="29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Математичний маятни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404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Коливна система, що складається з масивного тіла підвішеного довгою нерозтяжною ниткою до горизонтального підвіс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5510160" y="1322280"/>
            <a:ext cx="2249640" cy="48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Механізм коливання маятн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Вільні коливання математичного маятника при малих амплітудах є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гармонічни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5214960" y="1785960"/>
            <a:ext cx="3043080" cy="37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Формула Гюйгенс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440064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Якщо математичний маятник знаходиться в системі відліку, що рухається вертикально з прискоренням то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5072040" y="2714760"/>
            <a:ext cx="3040200" cy="17143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428840" y="3857760"/>
            <a:ext cx="2071440" cy="1311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3"/>
          <a:stretch/>
        </p:blipFill>
        <p:spPr>
          <a:xfrm>
            <a:off x="1357200" y="5214960"/>
            <a:ext cx="2486160" cy="83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Пружинний маятни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6840" y="1600200"/>
            <a:ext cx="3257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Коливна система, що складається з пружини та ті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3857760" y="1643040"/>
            <a:ext cx="5133960" cy="27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Механізм коливан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1857240" y="1714680"/>
            <a:ext cx="5550120" cy="46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Період коливань пружинного маятни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571760" y="2428920"/>
            <a:ext cx="2301840" cy="12524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61" name="Picture 4" descr=""/>
          <p:cNvPicPr/>
          <p:nvPr/>
        </p:nvPicPr>
        <p:blipFill>
          <a:blip r:embed="rId2"/>
          <a:stretch/>
        </p:blipFill>
        <p:spPr>
          <a:xfrm>
            <a:off x="4500720" y="1428840"/>
            <a:ext cx="348588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Перетворення енергії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 при коливних руха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071720" y="1643040"/>
            <a:ext cx="639900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Затухаючі коливан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28400" y="1642680"/>
            <a:ext cx="8429400" cy="16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Реальні коливання –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затухаючі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Амплітуда з часом зменшується до 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Причина – сили терт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2071800" y="3571920"/>
            <a:ext cx="499428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05-23T18:14:00Z</dcterms:modified>
  <cp:revision>5</cp:revision>
  <dc:subject/>
  <dc:title>Математичний маятник. Коливання тіла на пружині</dc:title>
</cp:coreProperties>
</file>