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D6A-0C97-4DBD-83D6-DB77CE22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9E6-AC72-4D29-BB83-DF16F9C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62F-7E46-4FD8-AFEA-F48C3B7B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0EA-36D4-4C5A-B400-D3044C26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4D4-67F3-4937-8A91-BE195F1D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8CE-7B37-429D-B1BF-DC4107C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F2A-9D33-4DC5-8755-C9E891EC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B46-E3AD-4461-BFE1-5EB658EE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79E-EF5F-4F18-9755-F438179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119-8017-4D10-AD58-CEE4ACAB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C9B-E3EA-4FF1-A9F8-E70B46CB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9E5-997F-4D70-BB6D-0BD9FA1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3026-416F-4589-A6CB-F6ACE9D7518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еханічні хвилі. Зв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Швидкість хвил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1928880"/>
            <a:ext cx="1430280" cy="73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вукові хвил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Звук – механічні коливання, що сприймаються людським слух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іапазон частот від 16 до 20000 Г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Швидкість в повітрі за нормальних атмосферних умов 330 м/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214880" y="1428840"/>
            <a:ext cx="4583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нфразв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ання з частотам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16 Г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28760" y="2357280"/>
            <a:ext cx="4286160" cy="279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071960" y="3571920"/>
            <a:ext cx="45370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Ультразв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1143000"/>
            <a:ext cx="300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ання з частотам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0000 Г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643280" y="1143000"/>
            <a:ext cx="3738600" cy="280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57120" y="3643200"/>
            <a:ext cx="418320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4643280" y="38098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арактеристики зву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астота відповідає за 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мплітуда відповідає за гуч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57862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214880" y="4143240"/>
            <a:ext cx="4319640" cy="23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ужне середовищ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400" y="1642680"/>
            <a:ext cx="6900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ередовище між частиками якого діють сили взаємодії внаслідок чого вникають пружні деформації  називають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ужними середовищ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оширення коливань в пружному середовищі –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механічна хвил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Тіло, яке викликає ви</a:t>
            </a: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никнення хвилі –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жерело хвил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вильова повер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еометричне місце точок, що коливаються в однаковій фаз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очки простору, які відділяють почали коливатись називають фронтом хвил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286160" y="3786120"/>
            <a:ext cx="44672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Фронт хвил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404496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45831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ди хви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Місце для вмісту 3" descr=""/>
          <p:cNvPicPr/>
          <p:nvPr/>
        </p:nvPicPr>
        <p:blipFill>
          <a:blip r:embed="rId1"/>
          <a:stretch/>
        </p:blipFill>
        <p:spPr>
          <a:xfrm>
            <a:off x="249120" y="1573200"/>
            <a:ext cx="8864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перечні хвил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ання відбуваються в напрямку перпендикулярному до напрямку поширення хвил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ширюються в твердих тілах (деформація зсув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643200" y="3857760"/>
            <a:ext cx="4133880" cy="2498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643200" y="3857760"/>
            <a:ext cx="164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прямок коли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643720" y="5715000"/>
            <a:ext cx="1785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прямок поширення 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вздовжні хвил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ливання відбуваються в напрямку  поширення хвил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ширюються в усіх тілах (деформація стиску, розтяг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28880" y="3857760"/>
            <a:ext cx="5900760" cy="2039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428920" y="3786120"/>
            <a:ext cx="20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пря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500200" y="4357800"/>
            <a:ext cx="20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лив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000680" y="4786200"/>
            <a:ext cx="207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пря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071960" y="521496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ширення 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285920" y="857160"/>
            <a:ext cx="6600960" cy="235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651816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вжина хвил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стань між найближчими очками, що коливаються в однаковій фаз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29040" y="5357880"/>
            <a:ext cx="1284480" cy="598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2786040"/>
            <a:ext cx="8969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7T18:28:14Z</dcterms:modified>
  <cp:revision>6</cp:revision>
  <dc:subject/>
  <dc:title>Механічні хвилі. Звук</dc:title>
</cp:coreProperties>
</file>