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64F-6044-43D9-A4E2-078EDDB7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B29-9E4B-4241-BEEB-FEBCA35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81A-F547-496C-A39A-D7DA5B16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DA0-6722-47D8-AB2E-CB90A546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6D3-3A38-4653-858B-B5A6985A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F9E-EE92-4143-BF5C-2C75197D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152A-ECBB-4429-93F4-9026D68B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DCA7-DA6E-4BE4-862E-45A81565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997-3452-43C1-99D5-B6D1878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1E4-9CD4-4AA3-B05C-6415A83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FDA-BF50-437A-AED7-DACA7D8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A28-8478-4F2B-90A5-4A2F38F5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403F-F93B-4338-A8BA-23EAF6DF48A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media\&#1087;&#1088;&#1080;&#1090;&#1103;&#1075;&#1072;&#1085;&#1085;&#1103; &#1074;&#1086;&#1076;&#1080; &#1087;&#1072;&#1083;&#1080;&#1095;&#1082;&#1086;&#1102;.avi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:\media\&#1077;&#1083;&#1077;&#1082;&#1090;&#1088;&#1080;&#1079;&#1072;&#1094;&#1110;&#1103;1.avi" TargetMode="External"/><Relationship Id="rId2" Type="http://schemas.openxmlformats.org/officeDocument/2006/relationships/hyperlink" Target="C:\media\&#1077;&#1083;&#1077;&#1082;&#1090;&#1088;&#1080;&#1079;&#1072;&#1094;&#1110;&#1103; &#1090;&#1077;&#1088;&#1090;&#1103;&#1084;.avi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media\2 &#1088;&#1086;&#1076;&#1080; &#1079;&#1072;&#1088;&#1103;&#1076;&#1110;&#1074;.avi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:\media\&#1075;&#1110;&#1083;&#1100;&#1079;&#1072; &#1079; &#1092;&#1086;&#1083;&#1100;&#1075;&#1080;.avi" TargetMode="External"/><Relationship Id="rId2" Type="http://schemas.openxmlformats.org/officeDocument/2006/relationships/hyperlink" Target="C:\media\&#1077;&#1083;&#1077;&#1082;&#1090;&#1088;&#1080;&#1079;&#1072;&#1094;&#1110;&#1103; &#1095;&#1077;&#1088;&#1077;&#1079; &#1074;&#1087;&#1083;&#1080;&#1074;.avi" TargetMode="External"/><Relationship Id="rId3" Type="http://schemas.openxmlformats.org/officeDocument/2006/relationships/hyperlink" Target="C:\media\&#1077;&#1083;&#1077;&#1082;&#1090;&#1088;&#1080;&#1079;&#1072;&#1094;&#1110;&#1103; &#1095;&#1077;&#1088;&#1077;&#1079; &#1074;&#1087;&#1083;&#1080;&#1074;2.avi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ктроста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Електричний заряд. Закон збереження електричного заря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357960" y="2714760"/>
            <a:ext cx="2352600" cy="1942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ктричний заря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Найбільш поширені явища. Притягання або відштовхування наелектризованих ті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Вперше спостерігав Фалес. Бурштин потертий об шерсть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Гілберт проводив досліди з різними речовинами. </a:t>
            </a:r>
            <a:r>
              <a:rPr b="0" lang="uk-UA" sz="2700" spc="-1" strike="noStrike">
                <a:solidFill>
                  <a:srgbClr val="000000"/>
                </a:solidFill>
                <a:latin typeface="Calibri"/>
              </a:rPr>
              <a:t>Електричні явища </a:t>
            </a:r>
            <a:r>
              <a:rPr b="0" i="1" lang="uk-UA" sz="2700" spc="-1" strike="noStrike">
                <a:solidFill>
                  <a:srgbClr val="000000"/>
                </a:solidFill>
                <a:latin typeface="Calibri"/>
              </a:rPr>
              <a:t>(грец. 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Electron - </a:t>
            </a:r>
            <a:r>
              <a:rPr b="0" i="1" lang="uk-UA" sz="2700" spc="-1" strike="noStrike">
                <a:solidFill>
                  <a:srgbClr val="000000"/>
                </a:solidFill>
                <a:latin typeface="Calibri"/>
              </a:rPr>
              <a:t>буршти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Кнопка дії: фільм 4">
            <a:hlinkClick r:id="rId2"/>
          </p:cNvPr>
          <p:cNvSpPr/>
          <p:nvPr/>
        </p:nvSpPr>
        <p:spPr>
          <a:xfrm>
            <a:off x="7715160" y="578628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4929120" y="1500120"/>
            <a:ext cx="1819440" cy="2025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4"/>
          <a:stretch/>
        </p:blipFill>
        <p:spPr>
          <a:xfrm>
            <a:off x="5000760" y="3857760"/>
            <a:ext cx="18381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ктричний заря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іла, які взаємодіють таким способом є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аелектризовані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Їм передано електричний заря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Заря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– кількісна міра електричної взаємоді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q] =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Кнопка дії: фільм 5">
            <a:hlinkClick r:id="rId1"/>
          </p:cNvPr>
          <p:cNvSpPr/>
          <p:nvPr/>
        </p:nvSpPr>
        <p:spPr>
          <a:xfrm>
            <a:off x="6786720" y="5929200"/>
            <a:ext cx="571320" cy="57168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14">
                <a:moveTo>
                  <a:pt x="0" y="0"/>
                </a:moveTo>
                <a:lnTo>
                  <a:pt x="21600" y="0"/>
                </a:lnTo>
                <a:lnTo>
                  <a:pt x="21600" y="21614"/>
                </a:lnTo>
                <a:lnTo>
                  <a:pt x="0" y="21614"/>
                </a:lnTo>
                <a:close/>
              </a:path>
              <a:path fill="lightenLess" w="21600" h="216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4">
                <a:moveTo>
                  <a:pt x="21600" y="0"/>
                </a:moveTo>
                <a:lnTo>
                  <a:pt x="21600" y="21614"/>
                </a:lnTo>
                <a:lnTo>
                  <a:pt x="20200" y="20214"/>
                </a:lnTo>
                <a:lnTo>
                  <a:pt x="20200" y="1400"/>
                </a:lnTo>
                <a:close/>
              </a:path>
              <a:path fill="darkenLess" w="21600" h="21614">
                <a:moveTo>
                  <a:pt x="21600" y="21614"/>
                </a:moveTo>
                <a:lnTo>
                  <a:pt x="0" y="21614"/>
                </a:lnTo>
                <a:lnTo>
                  <a:pt x="1400" y="20214"/>
                </a:lnTo>
                <a:lnTo>
                  <a:pt x="20200" y="20214"/>
                </a:lnTo>
                <a:close/>
              </a:path>
              <a:path fill="lighten" w="21600" h="21614">
                <a:moveTo>
                  <a:pt x="0" y="216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4"/>
                </a:lnTo>
                <a:close/>
              </a:path>
              <a:path fill="darken" w="21600" h="21614">
                <a:moveTo>
                  <a:pt x="3794" y="7308"/>
                </a:moveTo>
                <a:lnTo>
                  <a:pt x="4707" y="7308"/>
                </a:lnTo>
                <a:lnTo>
                  <a:pt x="5090" y="7673"/>
                </a:lnTo>
                <a:lnTo>
                  <a:pt x="14299" y="7673"/>
                </a:lnTo>
                <a:lnTo>
                  <a:pt x="14856" y="8231"/>
                </a:lnTo>
                <a:lnTo>
                  <a:pt x="14856" y="8779"/>
                </a:lnTo>
                <a:lnTo>
                  <a:pt x="16701" y="8779"/>
                </a:lnTo>
                <a:lnTo>
                  <a:pt x="17067" y="8231"/>
                </a:lnTo>
                <a:lnTo>
                  <a:pt x="17806" y="8231"/>
                </a:lnTo>
                <a:lnTo>
                  <a:pt x="17806" y="13383"/>
                </a:lnTo>
                <a:lnTo>
                  <a:pt x="17067" y="13383"/>
                </a:lnTo>
                <a:lnTo>
                  <a:pt x="16701" y="12835"/>
                </a:lnTo>
                <a:lnTo>
                  <a:pt x="14856" y="12835"/>
                </a:lnTo>
                <a:lnTo>
                  <a:pt x="14856" y="14114"/>
                </a:lnTo>
                <a:lnTo>
                  <a:pt x="5273" y="14114"/>
                </a:lnTo>
                <a:lnTo>
                  <a:pt x="5273" y="9884"/>
                </a:lnTo>
                <a:lnTo>
                  <a:pt x="5090" y="9884"/>
                </a:lnTo>
                <a:lnTo>
                  <a:pt x="4707" y="10250"/>
                </a:lnTo>
                <a:lnTo>
                  <a:pt x="3794" y="1025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Кнопка дії: фільм 7">
            <a:hlinkClick r:id="rId2"/>
          </p:cNvPr>
          <p:cNvSpPr/>
          <p:nvPr/>
        </p:nvSpPr>
        <p:spPr>
          <a:xfrm>
            <a:off x="7572240" y="592920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785880" y="4929120"/>
            <a:ext cx="15714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 дослідів отримано висно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Існує два роди електричних зарядів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Протони “+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на склі потертому об шовк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libri"/>
              </a:rPr>
              <a:t>Електрони “-”(на ебоніті потертому об шерсть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Однойменні заряди відштовхуються; різнойменні притягують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Носієм елементарного заряду є елементарна частинка (протон, електро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Кнопка дії: фільм 4">
            <a:hlinkClick r:id="rId1"/>
          </p:cNvPr>
          <p:cNvSpPr/>
          <p:nvPr/>
        </p:nvSpPr>
        <p:spPr>
          <a:xfrm>
            <a:off x="7358040" y="5929200"/>
            <a:ext cx="571680" cy="57168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46212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ментарні части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Елект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ряд = -1,6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са спокою = 9,1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-31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к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крив Томсо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от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Заряд = 1,6</a:t>
            </a:r>
            <a:r>
              <a:rPr b="0" lang="uk-UA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uk-UA" sz="28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К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са спокою в 1836 разів більша за масу елект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ідкрив Резерфор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Кнопка дії: фільм 7">
            <a:hlinkClick r:id="rId1"/>
          </p:cNvPr>
          <p:cNvSpPr/>
          <p:nvPr/>
        </p:nvSpPr>
        <p:spPr>
          <a:xfrm>
            <a:off x="6786720" y="6143760"/>
            <a:ext cx="571320" cy="571320"/>
          </a:xfrm>
          <a:custGeom>
            <a:avLst/>
            <a:gdLst>
              <a:gd name="textAreaLeft" fmla="*/ 36720 w 571320"/>
              <a:gd name="textAreaRight" fmla="*/ 534600 w 5713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Кнопка дії: фільм 8">
            <a:hlinkClick r:id="rId2"/>
          </p:cNvPr>
          <p:cNvSpPr/>
          <p:nvPr/>
        </p:nvSpPr>
        <p:spPr>
          <a:xfrm>
            <a:off x="7572240" y="614376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0" y="7301"/>
                </a:moveTo>
                <a:lnTo>
                  <a:pt x="4714" y="7301"/>
                </a:lnTo>
                <a:lnTo>
                  <a:pt x="5097" y="7667"/>
                </a:lnTo>
                <a:lnTo>
                  <a:pt x="14306" y="7667"/>
                </a:lnTo>
                <a:lnTo>
                  <a:pt x="14863" y="8224"/>
                </a:lnTo>
                <a:lnTo>
                  <a:pt x="14863" y="8772"/>
                </a:lnTo>
                <a:lnTo>
                  <a:pt x="16708" y="8772"/>
                </a:lnTo>
                <a:lnTo>
                  <a:pt x="17073" y="8224"/>
                </a:lnTo>
                <a:lnTo>
                  <a:pt x="17813" y="8224"/>
                </a:lnTo>
                <a:lnTo>
                  <a:pt x="17813" y="13376"/>
                </a:lnTo>
                <a:lnTo>
                  <a:pt x="17073" y="13376"/>
                </a:lnTo>
                <a:lnTo>
                  <a:pt x="16708" y="12828"/>
                </a:lnTo>
                <a:lnTo>
                  <a:pt x="14863" y="12828"/>
                </a:lnTo>
                <a:lnTo>
                  <a:pt x="14863" y="14107"/>
                </a:lnTo>
                <a:lnTo>
                  <a:pt x="5280" y="14107"/>
                </a:lnTo>
                <a:lnTo>
                  <a:pt x="5280" y="9877"/>
                </a:lnTo>
                <a:lnTo>
                  <a:pt x="5097" y="9877"/>
                </a:lnTo>
                <a:lnTo>
                  <a:pt x="4714" y="10243"/>
                </a:lnTo>
                <a:lnTo>
                  <a:pt x="3800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Кнопка дії: фільм 9">
            <a:hlinkClick r:id="rId3"/>
          </p:cNvPr>
          <p:cNvSpPr/>
          <p:nvPr/>
        </p:nvSpPr>
        <p:spPr>
          <a:xfrm>
            <a:off x="8358120" y="6143760"/>
            <a:ext cx="571680" cy="57132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1614" h="21600">
                <a:moveTo>
                  <a:pt x="0" y="0"/>
                </a:moveTo>
                <a:lnTo>
                  <a:pt x="21614" y="0"/>
                </a:lnTo>
                <a:lnTo>
                  <a:pt x="21614" y="21600"/>
                </a:lnTo>
                <a:lnTo>
                  <a:pt x="0" y="21600"/>
                </a:lnTo>
                <a:close/>
              </a:path>
              <a:path fill="lightenLess" w="21614" h="21600">
                <a:moveTo>
                  <a:pt x="0" y="0"/>
                </a:moveTo>
                <a:lnTo>
                  <a:pt x="21614" y="0"/>
                </a:lnTo>
                <a:lnTo>
                  <a:pt x="20214" y="1400"/>
                </a:lnTo>
                <a:lnTo>
                  <a:pt x="1400" y="1400"/>
                </a:lnTo>
                <a:close/>
              </a:path>
              <a:path fill="darken" w="21614" h="21600">
                <a:moveTo>
                  <a:pt x="21614" y="0"/>
                </a:moveTo>
                <a:lnTo>
                  <a:pt x="21614" y="21600"/>
                </a:lnTo>
                <a:lnTo>
                  <a:pt x="20214" y="20200"/>
                </a:lnTo>
                <a:lnTo>
                  <a:pt x="20214" y="1400"/>
                </a:lnTo>
                <a:close/>
              </a:path>
              <a:path fill="darkenLess" w="21614" h="21600">
                <a:moveTo>
                  <a:pt x="21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4" y="20200"/>
                </a:lnTo>
                <a:close/>
              </a:path>
              <a:path fill="lighten" w="21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4" h="21600">
                <a:moveTo>
                  <a:pt x="3800" y="7301"/>
                </a:moveTo>
                <a:lnTo>
                  <a:pt x="4714" y="7301"/>
                </a:lnTo>
                <a:lnTo>
                  <a:pt x="5097" y="7667"/>
                </a:lnTo>
                <a:lnTo>
                  <a:pt x="14306" y="7667"/>
                </a:lnTo>
                <a:lnTo>
                  <a:pt x="14863" y="8224"/>
                </a:lnTo>
                <a:lnTo>
                  <a:pt x="14863" y="8772"/>
                </a:lnTo>
                <a:lnTo>
                  <a:pt x="16708" y="8772"/>
                </a:lnTo>
                <a:lnTo>
                  <a:pt x="17073" y="8224"/>
                </a:lnTo>
                <a:lnTo>
                  <a:pt x="17813" y="8224"/>
                </a:lnTo>
                <a:lnTo>
                  <a:pt x="17813" y="13376"/>
                </a:lnTo>
                <a:lnTo>
                  <a:pt x="17073" y="13376"/>
                </a:lnTo>
                <a:lnTo>
                  <a:pt x="16708" y="12828"/>
                </a:lnTo>
                <a:lnTo>
                  <a:pt x="14863" y="12828"/>
                </a:lnTo>
                <a:lnTo>
                  <a:pt x="14863" y="14107"/>
                </a:lnTo>
                <a:lnTo>
                  <a:pt x="5280" y="14107"/>
                </a:lnTo>
                <a:lnTo>
                  <a:pt x="5280" y="9877"/>
                </a:lnTo>
                <a:lnTo>
                  <a:pt x="5097" y="9877"/>
                </a:lnTo>
                <a:lnTo>
                  <a:pt x="4714" y="10243"/>
                </a:lnTo>
                <a:lnTo>
                  <a:pt x="3800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4"/>
          <a:stretch/>
        </p:blipFill>
        <p:spPr>
          <a:xfrm>
            <a:off x="5786280" y="1785960"/>
            <a:ext cx="25513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Електричний заряд - дискрет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обто заряд будь-якого значення є кратним елементарно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357720" y="3286080"/>
            <a:ext cx="1873080" cy="503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слід Міллікена-Іофф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571760" y="1571760"/>
            <a:ext cx="6024600" cy="322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714680" y="4784760"/>
            <a:ext cx="302400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кон збереження електричного заря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 електроізольованій системі алгебраїчна сума зарядів залишається постійн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2500200" y="3071880"/>
                <a:ext cx="3543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±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кон Кул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540072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ила взаємодії між двома точковими нерухомими зарядами прямо пропорційна добутку цих зарядів і обернено пропорційна квадрату відстані між ни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143000" y="4071960"/>
            <a:ext cx="1940040" cy="906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428760" y="2786040"/>
            <a:ext cx="5321160" cy="635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6215040" y="1000080"/>
            <a:ext cx="2594160" cy="4179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643200" y="4143240"/>
            <a:ext cx="1828800" cy="708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5"/>
          <a:stretch/>
        </p:blipFill>
        <p:spPr>
          <a:xfrm>
            <a:off x="1143000" y="5357880"/>
            <a:ext cx="1873080" cy="938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1" name="Picture 7" descr=""/>
          <p:cNvPicPr/>
          <p:nvPr/>
        </p:nvPicPr>
        <p:blipFill>
          <a:blip r:embed="rId6"/>
          <a:stretch/>
        </p:blipFill>
        <p:spPr>
          <a:xfrm>
            <a:off x="3286080" y="5429160"/>
            <a:ext cx="356256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30T15:13:18Z</dcterms:modified>
  <cp:revision>11</cp:revision>
  <dc:subject/>
  <dc:title>Електростатика</dc:title>
</cp:coreProperties>
</file>