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FBC-6244-4752-84EA-347F4874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E4A-8AFD-4B05-B688-D935582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40C-8E6A-4CFA-8089-8DA1C548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D56-4F69-4BA1-9B03-EB23DB56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82D-50BC-4D26-8013-9FB2D9E3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5EB-DB6A-44CD-BF59-CE94A79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074-799D-42DA-9E83-29ABAF21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5FA-9A66-47F5-A79C-C863CD0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357-0034-47F5-9F94-0890A109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F26-F39C-4764-83C9-C24860C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59F-7539-45AA-92F3-9967112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BED-21CA-4192-B0B5-07FA792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2AB-1065-4C82-9222-6B90D4C0DBC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кони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реті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ли з якою взаємодіють два тіла  є силами однієї природи, напрямлені вздовж однієї прямої, рівні за модулем та протилежно напрямле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57120" y="4286160"/>
            <a:ext cx="81075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на задача механі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значити положення тіла в будь-який момент часу за відомим початковим положенням, швидкістю та силами, що діють на ті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786200" y="1928880"/>
            <a:ext cx="381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ши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1867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снують такі системи відліку, відносно яких тіло зберігає стан спокою чи прямолінійно та рівномірно рухається, якщо на нього не діють інші тіла або дія інших тіл скомпенс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4429080"/>
            <a:ext cx="681372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286160" y="3571920"/>
            <a:ext cx="3818160" cy="82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нерційні системи відлі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стеми відліку відносно яких тіло перебуває в стані спокою або прямолінійного рівномірного ру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3143160"/>
            <a:ext cx="4206600" cy="34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857840" y="3143160"/>
            <a:ext cx="3997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нцип відносності Галіл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всіх інерційних систем відліку усі фізичні явища протікають однаково при однакових початкових умов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29120" y="1643040"/>
            <a:ext cx="3286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 взаємодії тіла змінюють сою швидкість – набувають прискоре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ластивість тіл змінювати свою швидкість при взаємодії називаю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ертніст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кількісна міра інерт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215040" y="2643120"/>
            <a:ext cx="1600200" cy="10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мірювання ма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не залежить від швидкості руху (класична механі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тіла дорівнює сумі мас частинок з якої воно складає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системи тіл зберігає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500800" y="1571760"/>
            <a:ext cx="2738160" cy="251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072120" y="4786200"/>
            <a:ext cx="1716120" cy="973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471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ількісна міра взаємодії в результаті якої тіла набувають прискорення чи деформуються називаю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л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214880" cy="421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00080" y="4214880"/>
            <a:ext cx="32148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руги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скорення тіла прямо пропорційне рівнодійній усіх сил, які діють на тіло та обернено пропорційне масі тіла і напрямлене в напрямку дії рівнодійно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072120" y="5072040"/>
            <a:ext cx="1525680" cy="123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143160" y="5357880"/>
            <a:ext cx="171000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5286240" y="1571760"/>
            <a:ext cx="2806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16T19:31:07Z</dcterms:modified>
  <cp:revision>5</cp:revision>
  <dc:subject/>
  <dc:title>Закони Ньютона</dc:title>
</cp:coreProperties>
</file>