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21189-971A-4916-B29F-792CEECCB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84BE-9259-4414-B976-F665B7A7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4999-C7D9-41D1-96E2-E3517DC5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00F82-633B-4B81-ACD1-7F76C947D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E707-43FD-41C9-9CCA-EB7F52DE4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7B75-9BDD-40CB-B661-DA1E5E6D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C371B-0842-4E6C-8DFA-FB0AD247E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F6F65-6996-4180-ABA7-992E2B45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F32-2D95-473E-AFC3-111334F8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0A1-2580-40AD-B87E-14E2E5994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6B41-D81F-4EFE-BF42-765ECF58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0411-2E95-4DFD-8B4C-E4C43F945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D2A8-1A03-4CEC-95F7-E26D98F515F7}" type="slidenum">
              <a:rPr b="0" lang="uk-U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Закони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Треті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ли з якою взаємодіють два тіла  є силами однієї природи, напрямлені вздовж однієї прямої, рівні за модулем та протилежно напрямлен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2" descr=""/>
          <p:cNvPicPr/>
          <p:nvPr/>
        </p:nvPicPr>
        <p:blipFill>
          <a:blip r:embed="rId1"/>
          <a:stretch/>
        </p:blipFill>
        <p:spPr>
          <a:xfrm>
            <a:off x="357120" y="4286160"/>
            <a:ext cx="810756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Основна задача механік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изначити положення тіла в будь-який момент часу за відомим початковим положенням, швидкістю та силами, що діють на тіл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4786200" y="1928880"/>
            <a:ext cx="38102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ерши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6840" y="1600200"/>
            <a:ext cx="818676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снують такі системи відліку, відносно яких тіло зберігає стан спокою чи прямолінійно та рівномірно рухається, якщо на нього не діють інші тіла або дія інших тіл скомпенсован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143000" y="4429080"/>
            <a:ext cx="6813720" cy="1809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" descr=""/>
          <p:cNvPicPr/>
          <p:nvPr/>
        </p:nvPicPr>
        <p:blipFill>
          <a:blip r:embed="rId2"/>
          <a:stretch/>
        </p:blipFill>
        <p:spPr>
          <a:xfrm>
            <a:off x="4286160" y="3571920"/>
            <a:ext cx="3818160" cy="826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Інерційні системи відлік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стеми відліку відносно яких тіло перебуває в стані спокою або прямолінійного рівномірного руху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71680" y="3143160"/>
            <a:ext cx="4206600" cy="34419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857840" y="3143160"/>
            <a:ext cx="3997080" cy="33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Принцип відносності Галіле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У всіх інерційних систем відліку усі фізичні явища протікають однаково при однакових початкових умов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4929120" y="1643040"/>
            <a:ext cx="328608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Мас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 взаємодії тіла змінюють сою швидкість – набувають прискорення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Властивість тіл змінювати свою швидкість при взаємодії називаю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інертніст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– кількісна міра інертності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6215040" y="2643120"/>
            <a:ext cx="1600200" cy="10288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Вимірювання мас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не залежить від швидкості руху (класична механіка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тіла дорівнює сумі мас частинок з якої воно складає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Маса системи тіл зберігаєтьс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5500800" y="1571760"/>
            <a:ext cx="2738160" cy="2516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"/>
          <p:cNvPicPr/>
          <p:nvPr/>
        </p:nvPicPr>
        <p:blipFill>
          <a:blip r:embed="rId2"/>
          <a:stretch/>
        </p:blipFill>
        <p:spPr>
          <a:xfrm>
            <a:off x="6072120" y="4786200"/>
            <a:ext cx="1716120" cy="973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Сил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447192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Кількісна міра взаємодії в результаті якої тіла набувають прискорення чи деформуються називають </a:t>
            </a: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сило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2" descr=""/>
          <p:cNvPicPr/>
          <p:nvPr/>
        </p:nvPicPr>
        <p:blipFill>
          <a:blip r:embed="rId1"/>
          <a:stretch/>
        </p:blipFill>
        <p:spPr>
          <a:xfrm>
            <a:off x="4643280" y="1571760"/>
            <a:ext cx="4214880" cy="4214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3" descr=""/>
          <p:cNvPicPr/>
          <p:nvPr/>
        </p:nvPicPr>
        <p:blipFill>
          <a:blip r:embed="rId2"/>
          <a:stretch/>
        </p:blipFill>
        <p:spPr>
          <a:xfrm>
            <a:off x="1000080" y="4214880"/>
            <a:ext cx="3214800" cy="23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Calibri"/>
              </a:rPr>
              <a:t>Другий закон Ньютон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4006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Calibri"/>
              </a:rPr>
              <a:t>Прискорення тіла прямо пропорційне рівнодійній усіх сил, які діють на тіло та обернено пропорційне масі тіла і напрямлене в напрямку дії рівнодійно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6072120" y="5072040"/>
            <a:ext cx="1525680" cy="12319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71" name="Picture 4" descr=""/>
          <p:cNvPicPr/>
          <p:nvPr/>
        </p:nvPicPr>
        <p:blipFill>
          <a:blip r:embed="rId2"/>
          <a:stretch/>
        </p:blipFill>
        <p:spPr>
          <a:xfrm>
            <a:off x="3143160" y="5357880"/>
            <a:ext cx="1710000" cy="7491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5" descr=""/>
          <p:cNvPicPr/>
          <p:nvPr/>
        </p:nvPicPr>
        <p:blipFill>
          <a:blip r:embed="rId3"/>
          <a:stretch/>
        </p:blipFill>
        <p:spPr>
          <a:xfrm>
            <a:off x="5286240" y="1571760"/>
            <a:ext cx="2806920" cy="26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9-16T19:31:07Z</dcterms:modified>
  <cp:revision>5</cp:revision>
  <dc:subject/>
  <dc:title>Закони Ньютона</dc:title>
</cp:coreProperties>
</file>